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9C982-1510-4B01-9F5F-7AE720C52A3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776F-3718-4159-A2A9-13CD5739FE42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84B1-4D40-477E-BCDD-66FAC2AAD3C9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638C-8983-484E-AA2A-3EE2862B8648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C12C-5234-4AA6-BA9E-68748715F7CA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69DA-87F7-465B-A1DD-F0234429F1D2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5C5D-8C5B-4829-8D0E-3A2AB3B64AFA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4F84-EBD8-4D19-B73E-E557525C06DA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B814-7295-44EC-B207-467B04F92C1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DDF6-85AF-4168-B50B-FE583817BB2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5BCF-1E4D-411B-B09E-9C36E6C0491A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60F6-247D-4785-A574-8466CC29A90A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3B70-7EC6-4A48-8BAF-0249A98F8B4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6DF2-B87C-4A16-853B-62A94EB7D083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0C5A-3754-4F99-97D6-4CA56CBBDB9F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3C98-42CE-4993-BCC9-F7E63CA951F0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DA9F-EC2A-471C-8B35-C3E9E090B979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7DDC-FD88-4262-8E59-2631D94B319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EA32-C146-4411-B729-605CECD3C565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8B1-D994-4991-BE46-8AB3AE56F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EAB3-10F4-4CBB-854A-BFDB542A3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D1DA7-C437-47FB-B174-261ECBD4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EC579-4238-4AC0-B9F4-8A21E1F0E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D655C-BA0A-4A17-80C6-6A070E44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A4043-C3F2-4AD0-A109-88FEDA3A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28A8D-9AF2-4577-B392-852F9D01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E3D4F-3DE8-4B59-A7F9-2C95D7BE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34B88B-9DC9-49F2-BE8F-0479D2E4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4BA1B9-0C9E-4B28-BC74-D7A4807D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08B87-E8D0-43AD-8561-3E089B69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94E00-597C-437B-9015-07FD1AD9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48A-B161-49C7-A5E5-D1A67526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633A1-A327-431E-B021-E335D732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7E9E1-AA83-44DE-806A-A19FEBA7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A00B0-4D5E-40A5-8AAC-D0B36D99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FAE80-01CA-42FD-AA26-94B7B03C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68B02-276A-45B3-B455-0321C200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ED091-F878-4EB9-A65A-A487D6C8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2C945-2A60-4514-A417-EEEA062D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2227B-57CC-4C28-8F3E-84A6C6D6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6F89D-F6F7-4482-8175-09CB2D94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39BB7-8B4C-4D73-B232-8DC80A8A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A37D-6814-4AF5-AB02-2E7559E9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B99AD8-AA00-4E92-A2F9-04795A07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87476-E388-4AEA-9458-D07C0465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7A016-4B73-4B74-BCBF-B9470DA1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9DA00-008C-4FE9-8F14-3C941A3C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6A083-67B9-41D7-9F14-44800B21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5D711-05CF-483D-BEC3-CF9C0F95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5CBA50-8488-49B6-A149-634E6CEA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E9377-EC2E-459D-B900-753C0220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7506D-A65B-4D77-8955-8F649B6D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6F9EC-F834-4EA5-9272-D1464C30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EA72-6BE4-4298-9753-E0AB37A54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58627C-0A9A-4FF3-93A9-5B176F9E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70A3F-2DA3-4E50-9BF9-6D6BE285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90560-6B81-41A8-8949-90A599A9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7645C-C384-49A8-A2C7-6B93A70C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AF0C3-FF71-40AF-9FC0-D7F641E6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4F9AE-E86F-4489-923A-55172B81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45CF5-611F-452D-8590-B989A985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DECA3C-BEB4-4C9F-ACB6-26181521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3D596-C46C-49B1-9BEA-84D2E980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4C2EC-D0C5-4445-8289-B9EA4327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4883-A1DD-487E-B8FE-072CF8B5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BF82F-2F2A-4357-AD5E-60998C46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CC9F8-1780-4001-B542-086F8367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6F109-13A9-4E2D-8A90-0334A56C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66262-1D45-48DF-B648-61B0B07E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BBBAA7-002B-44BD-AAA6-567E3E90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6B17-E80B-4399-9D7D-063EBC4E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D66E-385C-49F6-9B0E-2C24FE52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16CA-E3E3-4C59-837D-AB09938A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3A76A-3B48-4E53-B6C9-73CBD99B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5061-CDA4-49F0-8275-1A0D4493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D57-9F8F-406D-9802-35796CAC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ADBB-E788-40BA-B7BC-4727CBB4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8EAE-94AC-4B79-B821-329ACF58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C74F-6A95-448A-AC0F-952831FE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FF7D5-2F37-4A41-85EE-2733D25D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7803-E2EB-492F-9C78-45E6C326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82852-9F63-4432-A468-0681C56E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389E3-1E8C-4AB6-8AA8-D8A797D93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09038-33AC-41B1-8D0B-D0801663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167A7-F6E7-4C24-BA64-84CEA987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40D31-8B25-496C-A297-F93E22E7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C688-E088-44C1-BD58-98083CE9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2E0C3-4DA7-41A9-AFB6-6B882FC1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21D4E-B13C-476A-A954-9E4D2557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AA404-1C4F-4E99-B457-8F3348D8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32601-EE09-45DE-8588-6ACD8A0B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F47EA-DEDB-4961-9C84-D0CC2C6F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2BD91-6C08-46B6-8933-3E2007C5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78F9B-0912-446A-99FB-65366F14B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2BF10-FAD2-48B7-AB07-843B58EF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BEA25-33FD-423D-B6E0-79637E95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A16CF-2809-4D3A-9DA9-57497D92E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E684-8562-4244-BA8E-86216957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9FDB4-BEA8-4A55-ABF4-697BAC6E5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39DB7-CA2A-4906-8C42-95833EFE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6A1FB-5C17-45D2-9E68-624C0732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44650-88B0-4F2A-8F67-EFD4D505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32633-6787-4CFB-807E-B74C7574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C5B48-2272-494E-B5D7-51B130D0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B59B3-C9F0-401E-AB35-60DD3524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07E38-7A32-4C96-BFBC-398BC6994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EAEC1-3B00-4560-A9AA-AD7DBD40A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0B105-813E-47C7-A8E4-87985CEEE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4A03-2DF8-47F9-B895-98F37179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4D39B-17DF-4E23-9086-D1DE57FD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A7AC8-F2EA-4584-B323-0AAE6D94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734A3-1A40-435B-9051-910A5F90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557B2-7E20-4C20-8C83-60CAA0E9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8603A-839A-4994-A931-D558A745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3F105-719E-45AC-A9F0-185223D8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4C311-1672-4D2E-9C2F-BB24F435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B674D-61BA-447A-B0FB-C504CAFC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46824-90E6-43B0-B32B-BDD5230F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B6812-65B6-47DC-A067-C834D7F9D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2F15-8712-4E9A-B60C-D4B0CD74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0FA7D-836F-488B-B866-405A7579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F4C1B-A656-4850-B366-6CDF772EA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D8A8A-7482-4301-9450-2FF29C19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10B91-4E85-4674-99BD-ECAA96CD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D4667-2D02-4896-A68F-3B148995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4A3B9-90CB-426C-8648-61C8A6FC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DDA61-D4E0-45F8-AA7D-88D0557E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F4F90-893A-41FA-8833-27839C48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1FBDF-2E2F-4495-9533-AA1FA9D9C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636EF-6292-4D58-8C31-48DE12B7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2145-2BBA-4D8E-98A8-03F275CF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8EB5C-F302-46A5-A9BF-CE28D131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31F15-3FEF-40E4-8B10-E68ED3FA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F0384-553F-405F-B187-61FFE7E6D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E0FC6-DCAB-458C-8FC6-37BF367F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6D28A-B25C-494A-BC23-D68FAB30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17DEB-3511-441C-8AAB-7A34E450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1B770-FF6E-45B3-AF8B-D80F1D3E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9D3D3-B94A-4C3D-B649-6FE09036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CAECE-D8A8-444D-B968-5EE64E09C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6794D-4EEE-496E-9E16-DA01F2B7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278-5BC8-42B2-A866-D357BB32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C9B6D-B0D5-4666-93E3-DCA4F8DC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3777B-9507-4015-92CA-1B58A71E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3844B-2DC2-47C5-8597-C546438D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96900-38E0-430E-9BC2-DEB92418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70FB5-FDB0-4292-A816-586BF921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35B34-E4FA-463C-9894-5BD19B5B9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0D60F-A1A7-45F5-939D-145854CD6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23D59-A080-4BCA-9C66-087D3E18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8CE77-FE32-42F7-89A7-7670989F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1B2C0-2D8D-4956-B645-56CFC21D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F54E-B3F3-4A87-82C8-EF256DDA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1A7C4-A3BA-495E-BCF4-ABE0598E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7618F-E4D5-483C-B971-70E863C6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C68D7-C619-4539-B1CB-4B7C3C43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E1FA0-B1DE-408F-A787-110AD7AB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21C15-1CA5-4516-99DA-5F3A8CCE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EDF7E-AD8B-4CC5-A6F9-96DA2CC68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C60B8-9B10-4BC2-9B30-7EC6A5DF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14924-545B-4391-83E5-9B9EFBD0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C42B5-ED83-40B8-B51C-74E45D45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DC54A-B3D5-4C61-B73B-0195A41B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B8A8-5F48-4114-9F52-BC377BED965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3104-FA40-4C5C-B802-10D18A26D8C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0B71A-4736-464E-B1E3-1D68C2955B6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D889-3C48-4B74-B3C0-849B76EF100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1884-F20C-4E5E-8755-9957E18A59D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B6BB-68B3-4B5B-ACE5-834A78CCCF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8741-24E9-4358-B4F6-535918C65A3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A31B-53EF-476C-8829-ED752BD4481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7E00-F541-4BA9-86C7-5ED68DD0244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5EE11-CF3A-4E98-8A60-320A8EAFAA0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6A65F-60B3-422E-915E-8598E26A1C5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2A5B-17E9-4C91-AD08-1870784BDB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500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1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2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3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4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5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6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7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8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9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0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1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2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3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4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5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6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7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8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9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0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1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2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3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4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5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6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7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28" name="组合 34"/>
          <p:cNvGrpSpPr/>
          <p:nvPr/>
        </p:nvGrpSpPr>
        <p:grpSpPr>
          <a:xfrm>
            <a:off x="4160880" y="1376280"/>
            <a:ext cx="7943760" cy="4134960"/>
            <a:chOff x="4160880" y="1376280"/>
            <a:chExt cx="7943760" cy="4134960"/>
          </a:xfrm>
        </p:grpSpPr>
        <p:sp>
          <p:nvSpPr>
            <p:cNvPr id="529" name="文本框 35"/>
            <p:cNvSpPr/>
            <p:nvPr/>
          </p:nvSpPr>
          <p:spPr>
            <a:xfrm>
              <a:off x="6504120" y="1376280"/>
              <a:ext cx="500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72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汽车电工电子技术</a:t>
              </a:r>
              <a:endParaRPr b="0" lang="en-US" sz="7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0" name="燕尾形 23"/>
            <p:cNvSpPr/>
            <p:nvPr/>
          </p:nvSpPr>
          <p:spPr>
            <a:xfrm>
              <a:off x="8655480" y="503388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1" name="文本框 40"/>
            <p:cNvSpPr/>
            <p:nvPr/>
          </p:nvSpPr>
          <p:spPr>
            <a:xfrm>
              <a:off x="4160880" y="4868640"/>
              <a:ext cx="794376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项目五   汽车模拟电路的安装调试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619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0" name="矩形 7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1" name="文本框 8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22" name="矩形 2"/>
          <p:cNvSpPr/>
          <p:nvPr/>
        </p:nvSpPr>
        <p:spPr>
          <a:xfrm>
            <a:off x="7242120" y="2401920"/>
            <a:ext cx="2241720" cy="1309680"/>
          </a:xfrm>
          <a:prstGeom prst="rect">
            <a:avLst/>
          </a:prstGeom>
          <a:solidFill>
            <a:srgbClr val="9dc3e6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rcRect l="0" t="0" r="0" b="15994"/>
          <a:stretch/>
        </p:blipFill>
        <p:spPr>
          <a:xfrm>
            <a:off x="6102360" y="3890880"/>
            <a:ext cx="5732280" cy="2967120"/>
          </a:xfrm>
          <a:prstGeom prst="rect">
            <a:avLst/>
          </a:prstGeom>
          <a:ln w="0">
            <a:noFill/>
          </a:ln>
        </p:spPr>
      </p:pic>
      <p:sp>
        <p:nvSpPr>
          <p:cNvPr id="624" name="矩形 10"/>
          <p:cNvSpPr/>
          <p:nvPr/>
        </p:nvSpPr>
        <p:spPr>
          <a:xfrm>
            <a:off x="6004800" y="3352680"/>
            <a:ext cx="51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数粒子的浓度差         多数粒子的扩散运动          空间电荷区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5" name="矩形 11"/>
          <p:cNvSpPr/>
          <p:nvPr/>
        </p:nvSpPr>
        <p:spPr>
          <a:xfrm>
            <a:off x="7242480" y="2509920"/>
            <a:ext cx="31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少数粒子做漂移运动           内电场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6" name="右箭头 10"/>
          <p:cNvSpPr/>
          <p:nvPr/>
        </p:nvSpPr>
        <p:spPr>
          <a:xfrm>
            <a:off x="6888240" y="3425760"/>
            <a:ext cx="341280" cy="20484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7" name="右箭头 11"/>
          <p:cNvSpPr/>
          <p:nvPr/>
        </p:nvSpPr>
        <p:spPr>
          <a:xfrm>
            <a:off x="9591840" y="3427560"/>
            <a:ext cx="341280" cy="20448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8" name="右箭头 12"/>
          <p:cNvSpPr/>
          <p:nvPr/>
        </p:nvSpPr>
        <p:spPr>
          <a:xfrm>
            <a:off x="9578880" y="3427560"/>
            <a:ext cx="341280" cy="20448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9" name="右箭头 13"/>
          <p:cNvSpPr/>
          <p:nvPr/>
        </p:nvSpPr>
        <p:spPr>
          <a:xfrm flipH="1">
            <a:off x="9507600" y="2570040"/>
            <a:ext cx="372960" cy="214560"/>
          </a:xfrm>
          <a:prstGeom prst="rightArrow">
            <a:avLst>
              <a:gd name="adj1" fmla="val 50000"/>
              <a:gd name="adj2" fmla="val 49814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0" name="下箭头 14"/>
          <p:cNvSpPr/>
          <p:nvPr/>
        </p:nvSpPr>
        <p:spPr>
          <a:xfrm flipV="1">
            <a:off x="10341000" y="2906640"/>
            <a:ext cx="217440" cy="395280"/>
          </a:xfrm>
          <a:prstGeom prst="downArrow">
            <a:avLst>
              <a:gd name="adj1" fmla="val 50000"/>
              <a:gd name="adj2" fmla="val 5015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1" name="矩形 18"/>
          <p:cNvSpPr/>
          <p:nvPr/>
        </p:nvSpPr>
        <p:spPr>
          <a:xfrm>
            <a:off x="6674760" y="1279440"/>
            <a:ext cx="33458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两个运动达到动态平衡后形成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N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结中的动态平衡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632" name="直接箭头连接符 19"/>
          <p:cNvCxnSpPr>
            <a:stCxn id="622" idx="0"/>
            <a:endCxn id="631" idx="2"/>
          </p:cNvCxnSpPr>
          <p:nvPr/>
        </p:nvCxnSpPr>
        <p:spPr>
          <a:xfrm flipH="1" flipV="1">
            <a:off x="8348040" y="1647000"/>
            <a:ext cx="14760" cy="7549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</p:cxnSp>
      <p:grpSp>
        <p:nvGrpSpPr>
          <p:cNvPr id="633" name="组合 20"/>
          <p:cNvGrpSpPr/>
          <p:nvPr/>
        </p:nvGrpSpPr>
        <p:grpSpPr>
          <a:xfrm>
            <a:off x="1257480" y="1309680"/>
            <a:ext cx="3063600" cy="1411200"/>
            <a:chOff x="1257480" y="1309680"/>
            <a:chExt cx="3063600" cy="1411200"/>
          </a:xfrm>
        </p:grpSpPr>
        <p:sp>
          <p:nvSpPr>
            <p:cNvPr id="634" name="圆角矩形 1"/>
            <p:cNvSpPr/>
            <p:nvPr/>
          </p:nvSpPr>
          <p:spPr>
            <a:xfrm>
              <a:off x="1257480" y="1309680"/>
              <a:ext cx="3063600" cy="141120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5" name="文本框 22"/>
            <p:cNvSpPr/>
            <p:nvPr/>
          </p:nvSpPr>
          <p:spPr>
            <a:xfrm>
              <a:off x="1322280" y="1333080"/>
              <a:ext cx="207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5.PN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结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6" name="文本框 15"/>
            <p:cNvSpPr/>
            <p:nvPr/>
          </p:nvSpPr>
          <p:spPr>
            <a:xfrm>
              <a:off x="1325160" y="1415160"/>
              <a:ext cx="296064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形成过程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63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9" name="矩形 7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0" name="文本框 8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半导体二极管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41" name="组合 20"/>
          <p:cNvGrpSpPr/>
          <p:nvPr/>
        </p:nvGrpSpPr>
        <p:grpSpPr>
          <a:xfrm>
            <a:off x="1301760" y="1298520"/>
            <a:ext cx="11534760" cy="2433600"/>
            <a:chOff x="1301760" y="1298520"/>
            <a:chExt cx="11534760" cy="2433600"/>
          </a:xfrm>
        </p:grpSpPr>
        <p:sp>
          <p:nvSpPr>
            <p:cNvPr id="642" name="圆角矩形 1"/>
            <p:cNvSpPr/>
            <p:nvPr/>
          </p:nvSpPr>
          <p:spPr>
            <a:xfrm>
              <a:off x="1301760" y="1298520"/>
              <a:ext cx="10236600" cy="243360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3" name="文本框 22"/>
            <p:cNvSpPr/>
            <p:nvPr/>
          </p:nvSpPr>
          <p:spPr>
            <a:xfrm>
              <a:off x="1518480" y="1339200"/>
              <a:ext cx="113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二极管的结构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4" name="文本框 15"/>
            <p:cNvSpPr/>
            <p:nvPr/>
          </p:nvSpPr>
          <p:spPr>
            <a:xfrm>
              <a:off x="1520280" y="1785240"/>
              <a:ext cx="98920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的两端各引出一根电极引线，然后用外壳封装起来就构成了半导体二极管，简称二极管，如下左图所示，其图形符号如下右图所示。由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区引出的电极称正极（或阳极），由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区引出的电极称负极（或阴极），电路符号中的箭头方向表示正向电流的流通方向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645" name="图片 2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79480" y="4354560"/>
            <a:ext cx="4087800" cy="1874880"/>
          </a:xfrm>
          <a:prstGeom prst="rect">
            <a:avLst/>
          </a:prstGeom>
          <a:ln w="0">
            <a:noFill/>
          </a:ln>
        </p:spPr>
      </p:pic>
      <p:pic>
        <p:nvPicPr>
          <p:cNvPr id="646" name="图片 25" descr=""/>
          <p:cNvPicPr/>
          <p:nvPr/>
        </p:nvPicPr>
        <p:blipFill>
          <a:blip r:embed="rId2"/>
          <a:srcRect l="0" t="0" r="0" b="-24933"/>
          <a:stretch/>
        </p:blipFill>
        <p:spPr>
          <a:xfrm>
            <a:off x="6180120" y="4363920"/>
            <a:ext cx="54198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64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9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0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半导体二极管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51" name="组合 13"/>
          <p:cNvGrpSpPr/>
          <p:nvPr/>
        </p:nvGrpSpPr>
        <p:grpSpPr>
          <a:xfrm>
            <a:off x="1301760" y="1298520"/>
            <a:ext cx="9853560" cy="2348280"/>
            <a:chOff x="1301760" y="1298520"/>
            <a:chExt cx="9853560" cy="2348280"/>
          </a:xfrm>
        </p:grpSpPr>
        <p:sp>
          <p:nvSpPr>
            <p:cNvPr id="652" name="圆角矩形 1"/>
            <p:cNvSpPr/>
            <p:nvPr/>
          </p:nvSpPr>
          <p:spPr>
            <a:xfrm>
              <a:off x="1301760" y="1298520"/>
              <a:ext cx="9853560" cy="234828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3" name="文本框 15"/>
            <p:cNvSpPr/>
            <p:nvPr/>
          </p:nvSpPr>
          <p:spPr>
            <a:xfrm>
              <a:off x="1486080" y="1337760"/>
              <a:ext cx="96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2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二极管的类型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4" name="文本框 15"/>
            <p:cNvSpPr/>
            <p:nvPr/>
          </p:nvSpPr>
          <p:spPr>
            <a:xfrm>
              <a:off x="1487880" y="1768320"/>
              <a:ext cx="931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二极管的种类很多，按制造材料分类，主要有硅二极管和锗二极管；按用途分类，主要有整流二极管、检波二极管、稳压二极管、开关二极管等；按接触的面积大小分类，可分为点接触型和面接触型两类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655" name="图片 17" descr=""/>
          <p:cNvPicPr/>
          <p:nvPr/>
        </p:nvPicPr>
        <p:blipFill>
          <a:blip r:embed="rId1">
            <a:grayscl/>
          </a:blip>
          <a:srcRect l="5558" t="0" r="8625" b="0"/>
          <a:stretch/>
        </p:blipFill>
        <p:spPr>
          <a:xfrm>
            <a:off x="2054160" y="3979800"/>
            <a:ext cx="8061480" cy="2327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65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8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9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半导体二极管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60" name="组合 13"/>
          <p:cNvGrpSpPr/>
          <p:nvPr/>
        </p:nvGrpSpPr>
        <p:grpSpPr>
          <a:xfrm>
            <a:off x="1301760" y="1298520"/>
            <a:ext cx="9853560" cy="2461680"/>
            <a:chOff x="1301760" y="1298520"/>
            <a:chExt cx="9853560" cy="2461680"/>
          </a:xfrm>
        </p:grpSpPr>
        <p:sp>
          <p:nvSpPr>
            <p:cNvPr id="661" name="圆角矩形 1"/>
            <p:cNvSpPr/>
            <p:nvPr/>
          </p:nvSpPr>
          <p:spPr>
            <a:xfrm>
              <a:off x="1301760" y="1298520"/>
              <a:ext cx="9853560" cy="246168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2" name="文本框 15"/>
            <p:cNvSpPr/>
            <p:nvPr/>
          </p:nvSpPr>
          <p:spPr>
            <a:xfrm>
              <a:off x="1486080" y="1337760"/>
              <a:ext cx="96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3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二极管的单向导电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3" name="文本框 15"/>
            <p:cNvSpPr/>
            <p:nvPr/>
          </p:nvSpPr>
          <p:spPr>
            <a:xfrm>
              <a:off x="1487880" y="1767960"/>
              <a:ext cx="9313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f2f2f2"/>
                </a:buClr>
                <a:buFont typeface="思源黑体 CN Light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二极管加正向电压，即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区接正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区接负，内电场被削弱，电子的扩散加强，形成较大的扩散电流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正向导通。 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f2f2f2"/>
                </a:buClr>
                <a:buFont typeface="思源黑体 CN Light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二极管加反向电压时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变宽，反向电流较小，反向电阻较大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处于截止状态。也即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具有单向导电性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64" name="Group 5"/>
          <p:cNvGrpSpPr/>
          <p:nvPr/>
        </p:nvGrpSpPr>
        <p:grpSpPr>
          <a:xfrm>
            <a:off x="2187720" y="4049640"/>
            <a:ext cx="7282080" cy="2425680"/>
            <a:chOff x="2187720" y="4049640"/>
            <a:chExt cx="7282080" cy="2425680"/>
          </a:xfrm>
        </p:grpSpPr>
        <p:grpSp>
          <p:nvGrpSpPr>
            <p:cNvPr id="665" name="Group 6"/>
            <p:cNvGrpSpPr/>
            <p:nvPr/>
          </p:nvGrpSpPr>
          <p:grpSpPr>
            <a:xfrm>
              <a:off x="5952600" y="4049640"/>
              <a:ext cx="3517200" cy="2425680"/>
              <a:chOff x="5952600" y="4049640"/>
              <a:chExt cx="3517200" cy="2425680"/>
            </a:xfrm>
          </p:grpSpPr>
          <p:grpSp>
            <p:nvGrpSpPr>
              <p:cNvPr id="666" name="Group 7"/>
              <p:cNvGrpSpPr/>
              <p:nvPr/>
            </p:nvGrpSpPr>
            <p:grpSpPr>
              <a:xfrm>
                <a:off x="5952600" y="4049640"/>
                <a:ext cx="3287520" cy="2425680"/>
                <a:chOff x="5952600" y="4049640"/>
                <a:chExt cx="3287520" cy="2425680"/>
              </a:xfrm>
            </p:grpSpPr>
            <p:sp>
              <p:nvSpPr>
                <p:cNvPr id="667" name="Line 8"/>
                <p:cNvSpPr/>
                <p:nvPr/>
              </p:nvSpPr>
              <p:spPr>
                <a:xfrm>
                  <a:off x="6550920" y="4049640"/>
                  <a:ext cx="0" cy="27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68" name="Line 9"/>
                <p:cNvSpPr/>
                <p:nvPr/>
              </p:nvSpPr>
              <p:spPr>
                <a:xfrm>
                  <a:off x="8551440" y="4049640"/>
                  <a:ext cx="0" cy="27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669" name="Group 10"/>
                <p:cNvGrpSpPr/>
                <p:nvPr/>
              </p:nvGrpSpPr>
              <p:grpSpPr>
                <a:xfrm>
                  <a:off x="7232400" y="5412960"/>
                  <a:ext cx="613440" cy="25920"/>
                  <a:chOff x="7232400" y="5412960"/>
                  <a:chExt cx="613440" cy="25920"/>
                </a:xfrm>
              </p:grpSpPr>
              <p:grpSp>
                <p:nvGrpSpPr>
                  <p:cNvPr id="670" name="Group 11"/>
                  <p:cNvGrpSpPr/>
                  <p:nvPr/>
                </p:nvGrpSpPr>
                <p:grpSpPr>
                  <a:xfrm>
                    <a:off x="7232400" y="5412960"/>
                    <a:ext cx="73800" cy="25920"/>
                    <a:chOff x="7232400" y="5412960"/>
                    <a:chExt cx="73800" cy="25920"/>
                  </a:xfrm>
                </p:grpSpPr>
                <p:sp>
                  <p:nvSpPr>
                    <p:cNvPr id="671" name="Line 12"/>
                    <p:cNvSpPr/>
                    <p:nvPr/>
                  </p:nvSpPr>
                  <p:spPr>
                    <a:xfrm flipH="1" flipV="1">
                      <a:off x="7232400" y="542592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672" name="Line 13"/>
                    <p:cNvSpPr/>
                    <p:nvPr/>
                  </p:nvSpPr>
                  <p:spPr>
                    <a:xfrm flipH="1">
                      <a:off x="7232400" y="541296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673" name="Line 14"/>
                  <p:cNvSpPr/>
                  <p:nvPr/>
                </p:nvSpPr>
                <p:spPr>
                  <a:xfrm flipH="1">
                    <a:off x="7242480" y="5423760"/>
                    <a:ext cx="603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674" name="Group 15"/>
                <p:cNvGrpSpPr/>
                <p:nvPr/>
              </p:nvGrpSpPr>
              <p:grpSpPr>
                <a:xfrm>
                  <a:off x="6165360" y="4327200"/>
                  <a:ext cx="2774520" cy="970200"/>
                  <a:chOff x="6165360" y="4327200"/>
                  <a:chExt cx="2774520" cy="970200"/>
                </a:xfrm>
              </p:grpSpPr>
              <p:sp>
                <p:nvSpPr>
                  <p:cNvPr id="675" name="Rectangle 16"/>
                  <p:cNvSpPr/>
                  <p:nvPr/>
                </p:nvSpPr>
                <p:spPr>
                  <a:xfrm>
                    <a:off x="6165360" y="4327200"/>
                    <a:ext cx="2774520" cy="97020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76" name="AutoShape 17"/>
                  <p:cNvSpPr/>
                  <p:nvPr/>
                </p:nvSpPr>
                <p:spPr>
                  <a:xfrm>
                    <a:off x="767340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77" name="Line 18"/>
                  <p:cNvSpPr/>
                  <p:nvPr/>
                </p:nvSpPr>
                <p:spPr>
                  <a:xfrm>
                    <a:off x="755352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78" name="AutoShape 19"/>
                  <p:cNvSpPr/>
                  <p:nvPr/>
                </p:nvSpPr>
                <p:spPr>
                  <a:xfrm>
                    <a:off x="799380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79" name="AutoShape 20"/>
                  <p:cNvSpPr/>
                  <p:nvPr/>
                </p:nvSpPr>
                <p:spPr>
                  <a:xfrm>
                    <a:off x="831420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0" name="AutoShape 21"/>
                  <p:cNvSpPr/>
                  <p:nvPr/>
                </p:nvSpPr>
                <p:spPr>
                  <a:xfrm>
                    <a:off x="767340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1" name="AutoShape 22"/>
                  <p:cNvSpPr/>
                  <p:nvPr/>
                </p:nvSpPr>
                <p:spPr>
                  <a:xfrm>
                    <a:off x="767340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2" name="AutoShape 23"/>
                  <p:cNvSpPr/>
                  <p:nvPr/>
                </p:nvSpPr>
                <p:spPr>
                  <a:xfrm>
                    <a:off x="799380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3" name="AutoShape 24"/>
                  <p:cNvSpPr/>
                  <p:nvPr/>
                </p:nvSpPr>
                <p:spPr>
                  <a:xfrm>
                    <a:off x="799380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4" name="AutoShape 25"/>
                  <p:cNvSpPr/>
                  <p:nvPr/>
                </p:nvSpPr>
                <p:spPr>
                  <a:xfrm>
                    <a:off x="831420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5" name="AutoShape 26"/>
                  <p:cNvSpPr/>
                  <p:nvPr/>
                </p:nvSpPr>
                <p:spPr>
                  <a:xfrm>
                    <a:off x="831420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grpSp>
                <p:nvGrpSpPr>
                  <p:cNvPr id="686" name="Group 27"/>
                  <p:cNvGrpSpPr/>
                  <p:nvPr/>
                </p:nvGrpSpPr>
                <p:grpSpPr>
                  <a:xfrm>
                    <a:off x="6632280" y="4465800"/>
                    <a:ext cx="151200" cy="150840"/>
                    <a:chOff x="6632280" y="4465800"/>
                    <a:chExt cx="151200" cy="150840"/>
                  </a:xfrm>
                </p:grpSpPr>
                <p:sp>
                  <p:nvSpPr>
                    <p:cNvPr id="687" name="Oval 28"/>
                    <p:cNvSpPr/>
                    <p:nvPr/>
                  </p:nvSpPr>
                  <p:spPr>
                    <a:xfrm>
                      <a:off x="6632280" y="44658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688" name="Line 29"/>
                    <p:cNvSpPr/>
                    <p:nvPr/>
                  </p:nvSpPr>
                  <p:spPr>
                    <a:xfrm>
                      <a:off x="6632280" y="45435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689" name="Group 30"/>
                  <p:cNvGrpSpPr/>
                  <p:nvPr/>
                </p:nvGrpSpPr>
                <p:grpSpPr>
                  <a:xfrm>
                    <a:off x="7273080" y="4465800"/>
                    <a:ext cx="151200" cy="150840"/>
                    <a:chOff x="7273080" y="4465800"/>
                    <a:chExt cx="151200" cy="150840"/>
                  </a:xfrm>
                </p:grpSpPr>
                <p:sp>
                  <p:nvSpPr>
                    <p:cNvPr id="690" name="Oval 31"/>
                    <p:cNvSpPr/>
                    <p:nvPr/>
                  </p:nvSpPr>
                  <p:spPr>
                    <a:xfrm>
                      <a:off x="7273080" y="44658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691" name="Line 32"/>
                    <p:cNvSpPr/>
                    <p:nvPr/>
                  </p:nvSpPr>
                  <p:spPr>
                    <a:xfrm>
                      <a:off x="7273080" y="45435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692" name="Group 33"/>
                  <p:cNvGrpSpPr/>
                  <p:nvPr/>
                </p:nvGrpSpPr>
                <p:grpSpPr>
                  <a:xfrm>
                    <a:off x="6952680" y="4465800"/>
                    <a:ext cx="150840" cy="150840"/>
                    <a:chOff x="6952680" y="4465800"/>
                    <a:chExt cx="150840" cy="150840"/>
                  </a:xfrm>
                </p:grpSpPr>
                <p:sp>
                  <p:nvSpPr>
                    <p:cNvPr id="693" name="Oval 34"/>
                    <p:cNvSpPr/>
                    <p:nvPr/>
                  </p:nvSpPr>
                  <p:spPr>
                    <a:xfrm>
                      <a:off x="6952680" y="44658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694" name="Line 35"/>
                    <p:cNvSpPr/>
                    <p:nvPr/>
                  </p:nvSpPr>
                  <p:spPr>
                    <a:xfrm>
                      <a:off x="6952680" y="45435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695" name="Group 36"/>
                  <p:cNvGrpSpPr/>
                  <p:nvPr/>
                </p:nvGrpSpPr>
                <p:grpSpPr>
                  <a:xfrm>
                    <a:off x="6632280" y="4743000"/>
                    <a:ext cx="151200" cy="150840"/>
                    <a:chOff x="6632280" y="4743000"/>
                    <a:chExt cx="151200" cy="150840"/>
                  </a:xfrm>
                </p:grpSpPr>
                <p:sp>
                  <p:nvSpPr>
                    <p:cNvPr id="696" name="Oval 37"/>
                    <p:cNvSpPr/>
                    <p:nvPr/>
                  </p:nvSpPr>
                  <p:spPr>
                    <a:xfrm>
                      <a:off x="6632280" y="47430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697" name="Line 38"/>
                    <p:cNvSpPr/>
                    <p:nvPr/>
                  </p:nvSpPr>
                  <p:spPr>
                    <a:xfrm>
                      <a:off x="6632280" y="48207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698" name="Group 39"/>
                  <p:cNvGrpSpPr/>
                  <p:nvPr/>
                </p:nvGrpSpPr>
                <p:grpSpPr>
                  <a:xfrm>
                    <a:off x="6952680" y="4743000"/>
                    <a:ext cx="150840" cy="150840"/>
                    <a:chOff x="6952680" y="4743000"/>
                    <a:chExt cx="150840" cy="150840"/>
                  </a:xfrm>
                </p:grpSpPr>
                <p:sp>
                  <p:nvSpPr>
                    <p:cNvPr id="699" name="Oval 40"/>
                    <p:cNvSpPr/>
                    <p:nvPr/>
                  </p:nvSpPr>
                  <p:spPr>
                    <a:xfrm>
                      <a:off x="6952680" y="47430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00" name="Line 41"/>
                    <p:cNvSpPr/>
                    <p:nvPr/>
                  </p:nvSpPr>
                  <p:spPr>
                    <a:xfrm>
                      <a:off x="6952680" y="48207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01" name="Group 42"/>
                  <p:cNvGrpSpPr/>
                  <p:nvPr/>
                </p:nvGrpSpPr>
                <p:grpSpPr>
                  <a:xfrm>
                    <a:off x="7273080" y="4743000"/>
                    <a:ext cx="151200" cy="150840"/>
                    <a:chOff x="7273080" y="4743000"/>
                    <a:chExt cx="151200" cy="150840"/>
                  </a:xfrm>
                </p:grpSpPr>
                <p:sp>
                  <p:nvSpPr>
                    <p:cNvPr id="702" name="Oval 43"/>
                    <p:cNvSpPr/>
                    <p:nvPr/>
                  </p:nvSpPr>
                  <p:spPr>
                    <a:xfrm>
                      <a:off x="7273080" y="47430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03" name="Line 44"/>
                    <p:cNvSpPr/>
                    <p:nvPr/>
                  </p:nvSpPr>
                  <p:spPr>
                    <a:xfrm>
                      <a:off x="7273080" y="48207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04" name="Group 45"/>
                  <p:cNvGrpSpPr/>
                  <p:nvPr/>
                </p:nvGrpSpPr>
                <p:grpSpPr>
                  <a:xfrm>
                    <a:off x="7273080" y="5020200"/>
                    <a:ext cx="151200" cy="150840"/>
                    <a:chOff x="7273080" y="5020200"/>
                    <a:chExt cx="151200" cy="150840"/>
                  </a:xfrm>
                </p:grpSpPr>
                <p:sp>
                  <p:nvSpPr>
                    <p:cNvPr id="705" name="Oval 46"/>
                    <p:cNvSpPr/>
                    <p:nvPr/>
                  </p:nvSpPr>
                  <p:spPr>
                    <a:xfrm>
                      <a:off x="7273080" y="50202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06" name="Line 47"/>
                    <p:cNvSpPr/>
                    <p:nvPr/>
                  </p:nvSpPr>
                  <p:spPr>
                    <a:xfrm>
                      <a:off x="7273080" y="50979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07" name="Group 48"/>
                  <p:cNvGrpSpPr/>
                  <p:nvPr/>
                </p:nvGrpSpPr>
                <p:grpSpPr>
                  <a:xfrm>
                    <a:off x="6952680" y="5020200"/>
                    <a:ext cx="150840" cy="150840"/>
                    <a:chOff x="6952680" y="5020200"/>
                    <a:chExt cx="150840" cy="150840"/>
                  </a:xfrm>
                </p:grpSpPr>
                <p:sp>
                  <p:nvSpPr>
                    <p:cNvPr id="708" name="Oval 49"/>
                    <p:cNvSpPr/>
                    <p:nvPr/>
                  </p:nvSpPr>
                  <p:spPr>
                    <a:xfrm>
                      <a:off x="6952680" y="50202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09" name="Line 50"/>
                    <p:cNvSpPr/>
                    <p:nvPr/>
                  </p:nvSpPr>
                  <p:spPr>
                    <a:xfrm>
                      <a:off x="6952680" y="50979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10" name="Group 51"/>
                  <p:cNvGrpSpPr/>
                  <p:nvPr/>
                </p:nvGrpSpPr>
                <p:grpSpPr>
                  <a:xfrm>
                    <a:off x="6632280" y="5020200"/>
                    <a:ext cx="151200" cy="150840"/>
                    <a:chOff x="6632280" y="5020200"/>
                    <a:chExt cx="151200" cy="150840"/>
                  </a:xfrm>
                </p:grpSpPr>
                <p:sp>
                  <p:nvSpPr>
                    <p:cNvPr id="711" name="Oval 52"/>
                    <p:cNvSpPr/>
                    <p:nvPr/>
                  </p:nvSpPr>
                  <p:spPr>
                    <a:xfrm>
                      <a:off x="6632280" y="50202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12" name="Line 53"/>
                    <p:cNvSpPr/>
                    <p:nvPr/>
                  </p:nvSpPr>
                  <p:spPr>
                    <a:xfrm>
                      <a:off x="6632280" y="50979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13" name="Oval 54"/>
                  <p:cNvSpPr/>
                  <p:nvPr/>
                </p:nvSpPr>
                <p:spPr>
                  <a:xfrm>
                    <a:off x="6245280" y="4644000"/>
                    <a:ext cx="65520" cy="6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14" name="Oval 55"/>
                  <p:cNvSpPr/>
                  <p:nvPr/>
                </p:nvSpPr>
                <p:spPr>
                  <a:xfrm>
                    <a:off x="6218640" y="4881600"/>
                    <a:ext cx="6552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15" name="Oval 56"/>
                  <p:cNvSpPr/>
                  <p:nvPr/>
                </p:nvSpPr>
                <p:spPr>
                  <a:xfrm>
                    <a:off x="8613360" y="492048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16" name="Oval 57"/>
                  <p:cNvSpPr/>
                  <p:nvPr/>
                </p:nvSpPr>
                <p:spPr>
                  <a:xfrm>
                    <a:off x="8794800" y="4617720"/>
                    <a:ext cx="65520" cy="65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17" name="Oval 58"/>
                  <p:cNvSpPr/>
                  <p:nvPr/>
                </p:nvSpPr>
                <p:spPr>
                  <a:xfrm>
                    <a:off x="8808120" y="494028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grpSp>
                <p:nvGrpSpPr>
                  <p:cNvPr id="718" name="Group 59"/>
                  <p:cNvGrpSpPr/>
                  <p:nvPr/>
                </p:nvGrpSpPr>
                <p:grpSpPr>
                  <a:xfrm>
                    <a:off x="6312240" y="4465800"/>
                    <a:ext cx="150840" cy="150840"/>
                    <a:chOff x="6312240" y="4465800"/>
                    <a:chExt cx="150840" cy="150840"/>
                  </a:xfrm>
                </p:grpSpPr>
                <p:sp>
                  <p:nvSpPr>
                    <p:cNvPr id="719" name="Oval 60"/>
                    <p:cNvSpPr/>
                    <p:nvPr/>
                  </p:nvSpPr>
                  <p:spPr>
                    <a:xfrm>
                      <a:off x="6312240" y="44658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20" name="Line 61"/>
                    <p:cNvSpPr/>
                    <p:nvPr/>
                  </p:nvSpPr>
                  <p:spPr>
                    <a:xfrm>
                      <a:off x="6312240" y="45435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21" name="Group 62"/>
                  <p:cNvGrpSpPr/>
                  <p:nvPr/>
                </p:nvGrpSpPr>
                <p:grpSpPr>
                  <a:xfrm>
                    <a:off x="6312240" y="4743000"/>
                    <a:ext cx="150840" cy="150840"/>
                    <a:chOff x="6312240" y="4743000"/>
                    <a:chExt cx="150840" cy="150840"/>
                  </a:xfrm>
                </p:grpSpPr>
                <p:sp>
                  <p:nvSpPr>
                    <p:cNvPr id="722" name="Oval 63"/>
                    <p:cNvSpPr/>
                    <p:nvPr/>
                  </p:nvSpPr>
                  <p:spPr>
                    <a:xfrm>
                      <a:off x="6312240" y="47430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23" name="Line 64"/>
                    <p:cNvSpPr/>
                    <p:nvPr/>
                  </p:nvSpPr>
                  <p:spPr>
                    <a:xfrm>
                      <a:off x="6312240" y="48207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24" name="Group 65"/>
                  <p:cNvGrpSpPr/>
                  <p:nvPr/>
                </p:nvGrpSpPr>
                <p:grpSpPr>
                  <a:xfrm>
                    <a:off x="6312240" y="5020200"/>
                    <a:ext cx="150840" cy="150840"/>
                    <a:chOff x="6312240" y="5020200"/>
                    <a:chExt cx="150840" cy="150840"/>
                  </a:xfrm>
                </p:grpSpPr>
                <p:sp>
                  <p:nvSpPr>
                    <p:cNvPr id="725" name="Oval 66"/>
                    <p:cNvSpPr/>
                    <p:nvPr/>
                  </p:nvSpPr>
                  <p:spPr>
                    <a:xfrm>
                      <a:off x="6312240" y="50202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26" name="Line 67"/>
                    <p:cNvSpPr/>
                    <p:nvPr/>
                  </p:nvSpPr>
                  <p:spPr>
                    <a:xfrm>
                      <a:off x="6312240" y="50979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27" name="AutoShape 68"/>
                  <p:cNvSpPr/>
                  <p:nvPr/>
                </p:nvSpPr>
                <p:spPr>
                  <a:xfrm>
                    <a:off x="863460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28" name="AutoShape 69"/>
                  <p:cNvSpPr/>
                  <p:nvPr/>
                </p:nvSpPr>
                <p:spPr>
                  <a:xfrm>
                    <a:off x="863460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29" name="AutoShape 70"/>
                  <p:cNvSpPr/>
                  <p:nvPr/>
                </p:nvSpPr>
                <p:spPr>
                  <a:xfrm>
                    <a:off x="863460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30" name="Line 71"/>
                  <p:cNvSpPr/>
                  <p:nvPr/>
                </p:nvSpPr>
                <p:spPr>
                  <a:xfrm>
                    <a:off x="655056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31" name="Line 72"/>
                  <p:cNvSpPr/>
                  <p:nvPr/>
                </p:nvSpPr>
                <p:spPr>
                  <a:xfrm>
                    <a:off x="855108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32" name="Oval 73"/>
                  <p:cNvSpPr/>
                  <p:nvPr/>
                </p:nvSpPr>
                <p:spPr>
                  <a:xfrm>
                    <a:off x="6418800" y="4659120"/>
                    <a:ext cx="65520" cy="6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733" name="Group 74"/>
                <p:cNvGrpSpPr/>
                <p:nvPr/>
              </p:nvGrpSpPr>
              <p:grpSpPr>
                <a:xfrm>
                  <a:off x="7231320" y="5649480"/>
                  <a:ext cx="614520" cy="25920"/>
                  <a:chOff x="7231320" y="5649480"/>
                  <a:chExt cx="614520" cy="25920"/>
                </a:xfrm>
              </p:grpSpPr>
              <p:grpSp>
                <p:nvGrpSpPr>
                  <p:cNvPr id="734" name="Group 75"/>
                  <p:cNvGrpSpPr/>
                  <p:nvPr/>
                </p:nvGrpSpPr>
                <p:grpSpPr>
                  <a:xfrm>
                    <a:off x="7231320" y="5649480"/>
                    <a:ext cx="74160" cy="25920"/>
                    <a:chOff x="7231320" y="5649480"/>
                    <a:chExt cx="74160" cy="25920"/>
                  </a:xfrm>
                </p:grpSpPr>
                <p:sp>
                  <p:nvSpPr>
                    <p:cNvPr id="735" name="Line 76"/>
                    <p:cNvSpPr/>
                    <p:nvPr/>
                  </p:nvSpPr>
                  <p:spPr>
                    <a:xfrm flipH="1" flipV="1">
                      <a:off x="7231320" y="566244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36" name="Line 77"/>
                    <p:cNvSpPr/>
                    <p:nvPr/>
                  </p:nvSpPr>
                  <p:spPr>
                    <a:xfrm flipH="1">
                      <a:off x="7231320" y="564948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37" name="Line 78"/>
                  <p:cNvSpPr/>
                  <p:nvPr/>
                </p:nvSpPr>
                <p:spPr>
                  <a:xfrm flipH="1">
                    <a:off x="7241040" y="5660280"/>
                    <a:ext cx="604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38" name="Line 79"/>
                <p:cNvSpPr/>
                <p:nvPr/>
              </p:nvSpPr>
              <p:spPr>
                <a:xfrm>
                  <a:off x="6170040" y="5435280"/>
                  <a:ext cx="0" cy="69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39" name="Group 80"/>
                <p:cNvGrpSpPr/>
                <p:nvPr/>
              </p:nvGrpSpPr>
              <p:grpSpPr>
                <a:xfrm>
                  <a:off x="6562440" y="4181040"/>
                  <a:ext cx="656280" cy="25920"/>
                  <a:chOff x="6562440" y="4181040"/>
                  <a:chExt cx="656280" cy="25920"/>
                </a:xfrm>
              </p:grpSpPr>
              <p:grpSp>
                <p:nvGrpSpPr>
                  <p:cNvPr id="740" name="Group 81"/>
                  <p:cNvGrpSpPr/>
                  <p:nvPr/>
                </p:nvGrpSpPr>
                <p:grpSpPr>
                  <a:xfrm>
                    <a:off x="6562440" y="4181040"/>
                    <a:ext cx="73800" cy="25920"/>
                    <a:chOff x="6562440" y="4181040"/>
                    <a:chExt cx="73800" cy="25920"/>
                  </a:xfrm>
                </p:grpSpPr>
                <p:sp>
                  <p:nvSpPr>
                    <p:cNvPr id="741" name="Line 82"/>
                    <p:cNvSpPr/>
                    <p:nvPr/>
                  </p:nvSpPr>
                  <p:spPr>
                    <a:xfrm flipH="1" flipV="1">
                      <a:off x="6562440" y="419400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42" name="Line 83"/>
                    <p:cNvSpPr/>
                    <p:nvPr/>
                  </p:nvSpPr>
                  <p:spPr>
                    <a:xfrm flipH="1">
                      <a:off x="6562440" y="418104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43" name="Line 84"/>
                  <p:cNvSpPr/>
                  <p:nvPr/>
                </p:nvSpPr>
                <p:spPr>
                  <a:xfrm flipH="1">
                    <a:off x="6615000" y="4192920"/>
                    <a:ext cx="603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44" name="Line 85"/>
                <p:cNvSpPr/>
                <p:nvPr/>
              </p:nvSpPr>
              <p:spPr>
                <a:xfrm>
                  <a:off x="8933760" y="5435280"/>
                  <a:ext cx="0" cy="69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45" name="Group 86"/>
                <p:cNvGrpSpPr/>
                <p:nvPr/>
              </p:nvGrpSpPr>
              <p:grpSpPr>
                <a:xfrm>
                  <a:off x="7678080" y="5914800"/>
                  <a:ext cx="1243800" cy="24120"/>
                  <a:chOff x="7678080" y="5914800"/>
                  <a:chExt cx="1243800" cy="24120"/>
                </a:xfrm>
              </p:grpSpPr>
              <p:grpSp>
                <p:nvGrpSpPr>
                  <p:cNvPr id="746" name="Group 87"/>
                  <p:cNvGrpSpPr/>
                  <p:nvPr/>
                </p:nvGrpSpPr>
                <p:grpSpPr>
                  <a:xfrm>
                    <a:off x="8847720" y="5914800"/>
                    <a:ext cx="74160" cy="24120"/>
                    <a:chOff x="8847720" y="5914800"/>
                    <a:chExt cx="74160" cy="24120"/>
                  </a:xfrm>
                </p:grpSpPr>
                <p:sp>
                  <p:nvSpPr>
                    <p:cNvPr id="747" name="Line 88"/>
                    <p:cNvSpPr/>
                    <p:nvPr/>
                  </p:nvSpPr>
                  <p:spPr>
                    <a:xfrm>
                      <a:off x="8847720" y="591480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48" name="Line 89"/>
                    <p:cNvSpPr/>
                    <p:nvPr/>
                  </p:nvSpPr>
                  <p:spPr>
                    <a:xfrm flipV="1">
                      <a:off x="8847720" y="592596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49" name="Line 90"/>
                  <p:cNvSpPr/>
                  <p:nvPr/>
                </p:nvSpPr>
                <p:spPr>
                  <a:xfrm>
                    <a:off x="7678080" y="5927040"/>
                    <a:ext cx="12106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750" name="Group 91"/>
                <p:cNvGrpSpPr/>
                <p:nvPr/>
              </p:nvGrpSpPr>
              <p:grpSpPr>
                <a:xfrm>
                  <a:off x="6180480" y="5917680"/>
                  <a:ext cx="1243440" cy="25560"/>
                  <a:chOff x="6180480" y="5917680"/>
                  <a:chExt cx="1243440" cy="25560"/>
                </a:xfrm>
              </p:grpSpPr>
              <p:grpSp>
                <p:nvGrpSpPr>
                  <p:cNvPr id="751" name="Group 92"/>
                  <p:cNvGrpSpPr/>
                  <p:nvPr/>
                </p:nvGrpSpPr>
                <p:grpSpPr>
                  <a:xfrm>
                    <a:off x="6180480" y="5917680"/>
                    <a:ext cx="74160" cy="25560"/>
                    <a:chOff x="6180480" y="5917680"/>
                    <a:chExt cx="74160" cy="25560"/>
                  </a:xfrm>
                </p:grpSpPr>
                <p:sp>
                  <p:nvSpPr>
                    <p:cNvPr id="752" name="Line 93"/>
                    <p:cNvSpPr/>
                    <p:nvPr/>
                  </p:nvSpPr>
                  <p:spPr>
                    <a:xfrm flipH="1" flipV="1">
                      <a:off x="6180480" y="593028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53" name="Line 94"/>
                    <p:cNvSpPr/>
                    <p:nvPr/>
                  </p:nvSpPr>
                  <p:spPr>
                    <a:xfrm flipH="1">
                      <a:off x="6180480" y="591768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54" name="Line 95"/>
                  <p:cNvSpPr/>
                  <p:nvPr/>
                </p:nvSpPr>
                <p:spPr>
                  <a:xfrm flipH="1">
                    <a:off x="6213600" y="5930280"/>
                    <a:ext cx="1210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55" name="Line 96"/>
                <p:cNvSpPr/>
                <p:nvPr/>
              </p:nvSpPr>
              <p:spPr>
                <a:xfrm flipH="1">
                  <a:off x="5952600" y="4822560"/>
                  <a:ext cx="201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56" name="Line 97"/>
                <p:cNvSpPr/>
                <p:nvPr/>
              </p:nvSpPr>
              <p:spPr>
                <a:xfrm flipH="1">
                  <a:off x="8941680" y="4822560"/>
                  <a:ext cx="20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57" name="Line 98"/>
                <p:cNvSpPr/>
                <p:nvPr/>
              </p:nvSpPr>
              <p:spPr>
                <a:xfrm>
                  <a:off x="5952960" y="4822560"/>
                  <a:ext cx="0" cy="1525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58" name="Line 99"/>
                <p:cNvSpPr/>
                <p:nvPr/>
              </p:nvSpPr>
              <p:spPr>
                <a:xfrm>
                  <a:off x="9154440" y="4822560"/>
                  <a:ext cx="0" cy="1525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59" name="Line 100"/>
                <p:cNvSpPr/>
                <p:nvPr/>
              </p:nvSpPr>
              <p:spPr>
                <a:xfrm>
                  <a:off x="5952960" y="6348240"/>
                  <a:ext cx="1441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60" name="Group 101"/>
                <p:cNvGrpSpPr/>
                <p:nvPr/>
              </p:nvGrpSpPr>
              <p:grpSpPr>
                <a:xfrm>
                  <a:off x="7395120" y="6224400"/>
                  <a:ext cx="50760" cy="250920"/>
                  <a:chOff x="7395120" y="6224400"/>
                  <a:chExt cx="50760" cy="250920"/>
                </a:xfrm>
              </p:grpSpPr>
              <p:sp>
                <p:nvSpPr>
                  <p:cNvPr id="761" name="Line 102"/>
                  <p:cNvSpPr/>
                  <p:nvPr/>
                </p:nvSpPr>
                <p:spPr>
                  <a:xfrm>
                    <a:off x="7445880" y="622440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62" name="Line 103"/>
                  <p:cNvSpPr/>
                  <p:nvPr/>
                </p:nvSpPr>
                <p:spPr>
                  <a:xfrm>
                    <a:off x="7395120" y="6285600"/>
                    <a:ext cx="0" cy="125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763" name="Group 104"/>
                <p:cNvGrpSpPr/>
                <p:nvPr/>
              </p:nvGrpSpPr>
              <p:grpSpPr>
                <a:xfrm>
                  <a:off x="7503480" y="6224400"/>
                  <a:ext cx="50400" cy="250920"/>
                  <a:chOff x="7503480" y="6224400"/>
                  <a:chExt cx="50400" cy="250920"/>
                </a:xfrm>
              </p:grpSpPr>
              <p:sp>
                <p:nvSpPr>
                  <p:cNvPr id="764" name="Line 105"/>
                  <p:cNvSpPr/>
                  <p:nvPr/>
                </p:nvSpPr>
                <p:spPr>
                  <a:xfrm>
                    <a:off x="7553880" y="622440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65" name="Line 106"/>
                  <p:cNvSpPr/>
                  <p:nvPr/>
                </p:nvSpPr>
                <p:spPr>
                  <a:xfrm>
                    <a:off x="7503480" y="6285600"/>
                    <a:ext cx="0" cy="125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66" name="Line 107"/>
                <p:cNvSpPr/>
                <p:nvPr/>
              </p:nvSpPr>
              <p:spPr>
                <a:xfrm>
                  <a:off x="7554240" y="6348240"/>
                  <a:ext cx="1599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67" name="Group 108"/>
                <p:cNvGrpSpPr/>
                <p:nvPr/>
              </p:nvGrpSpPr>
              <p:grpSpPr>
                <a:xfrm>
                  <a:off x="9214920" y="5815440"/>
                  <a:ext cx="25200" cy="418320"/>
                  <a:chOff x="9214920" y="5815440"/>
                  <a:chExt cx="25200" cy="418320"/>
                </a:xfrm>
              </p:grpSpPr>
              <p:grpSp>
                <p:nvGrpSpPr>
                  <p:cNvPr id="768" name="Group 109"/>
                  <p:cNvGrpSpPr/>
                  <p:nvPr/>
                </p:nvGrpSpPr>
                <p:grpSpPr>
                  <a:xfrm>
                    <a:off x="9214920" y="5815440"/>
                    <a:ext cx="25200" cy="73800"/>
                    <a:chOff x="9214920" y="5815440"/>
                    <a:chExt cx="25200" cy="73800"/>
                  </a:xfrm>
                </p:grpSpPr>
                <p:sp>
                  <p:nvSpPr>
                    <p:cNvPr id="769" name="Line 110"/>
                    <p:cNvSpPr/>
                    <p:nvPr/>
                  </p:nvSpPr>
                  <p:spPr>
                    <a:xfrm flipV="1">
                      <a:off x="9214920" y="5815440"/>
                      <a:ext cx="12960" cy="738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70" name="Line 111"/>
                    <p:cNvSpPr/>
                    <p:nvPr/>
                  </p:nvSpPr>
                  <p:spPr>
                    <a:xfrm flipH="1" flipV="1">
                      <a:off x="9227160" y="5815440"/>
                      <a:ext cx="12960" cy="738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71" name="Line 112"/>
                  <p:cNvSpPr/>
                  <p:nvPr/>
                </p:nvSpPr>
                <p:spPr>
                  <a:xfrm flipV="1">
                    <a:off x="9225720" y="58305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72" name="Rectangle 113"/>
                <p:cNvSpPr/>
                <p:nvPr/>
              </p:nvSpPr>
              <p:spPr>
                <a:xfrm>
                  <a:off x="9118080" y="5479920"/>
                  <a:ext cx="74160" cy="226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73" name="Group 114"/>
                <p:cNvGrpSpPr/>
                <p:nvPr/>
              </p:nvGrpSpPr>
              <p:grpSpPr>
                <a:xfrm>
                  <a:off x="7886160" y="4181040"/>
                  <a:ext cx="656280" cy="25920"/>
                  <a:chOff x="7886160" y="4181040"/>
                  <a:chExt cx="656280" cy="25920"/>
                </a:xfrm>
              </p:grpSpPr>
              <p:grpSp>
                <p:nvGrpSpPr>
                  <p:cNvPr id="774" name="Group 115"/>
                  <p:cNvGrpSpPr/>
                  <p:nvPr/>
                </p:nvGrpSpPr>
                <p:grpSpPr>
                  <a:xfrm>
                    <a:off x="8468640" y="4181040"/>
                    <a:ext cx="73800" cy="25920"/>
                    <a:chOff x="8468640" y="4181040"/>
                    <a:chExt cx="73800" cy="25920"/>
                  </a:xfrm>
                </p:grpSpPr>
                <p:sp>
                  <p:nvSpPr>
                    <p:cNvPr id="775" name="Line 116"/>
                    <p:cNvSpPr/>
                    <p:nvPr/>
                  </p:nvSpPr>
                  <p:spPr>
                    <a:xfrm>
                      <a:off x="8468640" y="418104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76" name="Line 117"/>
                    <p:cNvSpPr/>
                    <p:nvPr/>
                  </p:nvSpPr>
                  <p:spPr>
                    <a:xfrm flipV="1">
                      <a:off x="8468640" y="419400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77" name="Line 118"/>
                  <p:cNvSpPr/>
                  <p:nvPr/>
                </p:nvSpPr>
                <p:spPr>
                  <a:xfrm>
                    <a:off x="7886160" y="4195080"/>
                    <a:ext cx="603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</p:grpSp>
          <p:grpSp>
            <p:nvGrpSpPr>
              <p:cNvPr id="778" name="Group 119"/>
              <p:cNvGrpSpPr/>
              <p:nvPr/>
            </p:nvGrpSpPr>
            <p:grpSpPr>
              <a:xfrm>
                <a:off x="6201720" y="4057560"/>
                <a:ext cx="3268080" cy="2239920"/>
                <a:chOff x="6201720" y="4057560"/>
                <a:chExt cx="3268080" cy="2239920"/>
              </a:xfrm>
            </p:grpSpPr>
            <p:sp>
              <p:nvSpPr>
                <p:cNvPr id="779" name="Text Box 120"/>
                <p:cNvSpPr/>
                <p:nvPr/>
              </p:nvSpPr>
              <p:spPr>
                <a:xfrm>
                  <a:off x="7298280" y="6046560"/>
                  <a:ext cx="20628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0" name="Text Box 121"/>
                <p:cNvSpPr/>
                <p:nvPr/>
              </p:nvSpPr>
              <p:spPr>
                <a:xfrm>
                  <a:off x="6201720" y="4074840"/>
                  <a:ext cx="410760" cy="2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P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1" name="Text Box 122"/>
                <p:cNvSpPr/>
                <p:nvPr/>
              </p:nvSpPr>
              <p:spPr>
                <a:xfrm>
                  <a:off x="8598600" y="4079880"/>
                  <a:ext cx="410760" cy="27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N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2" name="Text Box 123"/>
                <p:cNvSpPr/>
                <p:nvPr/>
              </p:nvSpPr>
              <p:spPr>
                <a:xfrm>
                  <a:off x="7212600" y="4057560"/>
                  <a:ext cx="703080" cy="27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耗尽层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3" name="Text Box 124"/>
                <p:cNvSpPr/>
                <p:nvPr/>
              </p:nvSpPr>
              <p:spPr>
                <a:xfrm>
                  <a:off x="7946280" y="5300640"/>
                  <a:ext cx="70272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内电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4" name="Text Box 125"/>
                <p:cNvSpPr/>
                <p:nvPr/>
              </p:nvSpPr>
              <p:spPr>
                <a:xfrm>
                  <a:off x="7946280" y="5524200"/>
                  <a:ext cx="70272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外电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5" name="Text Box 126"/>
                <p:cNvSpPr/>
                <p:nvPr/>
              </p:nvSpPr>
              <p:spPr>
                <a:xfrm>
                  <a:off x="7454160" y="5808600"/>
                  <a:ext cx="20592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U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6" name="Text Box 127"/>
                <p:cNvSpPr/>
                <p:nvPr/>
              </p:nvSpPr>
              <p:spPr>
                <a:xfrm>
                  <a:off x="6233040" y="5721120"/>
                  <a:ext cx="20952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7" name="Text Box 128"/>
                <p:cNvSpPr/>
                <p:nvPr/>
              </p:nvSpPr>
              <p:spPr>
                <a:xfrm>
                  <a:off x="8771760" y="5702040"/>
                  <a:ext cx="20916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8" name="Text Box 129"/>
                <p:cNvSpPr/>
                <p:nvPr/>
              </p:nvSpPr>
              <p:spPr>
                <a:xfrm>
                  <a:off x="9225720" y="5470200"/>
                  <a:ext cx="20592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9" name="Text Box 130"/>
                <p:cNvSpPr/>
                <p:nvPr/>
              </p:nvSpPr>
              <p:spPr>
                <a:xfrm>
                  <a:off x="9263880" y="5884560"/>
                  <a:ext cx="20592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I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等线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790" name="Group 131"/>
            <p:cNvGrpSpPr/>
            <p:nvPr/>
          </p:nvGrpSpPr>
          <p:grpSpPr>
            <a:xfrm>
              <a:off x="2187720" y="4049640"/>
              <a:ext cx="3715560" cy="2425320"/>
              <a:chOff x="2187720" y="4049640"/>
              <a:chExt cx="3715560" cy="2425320"/>
            </a:xfrm>
          </p:grpSpPr>
          <p:grpSp>
            <p:nvGrpSpPr>
              <p:cNvPr id="791" name="Group 132"/>
              <p:cNvGrpSpPr/>
              <p:nvPr/>
            </p:nvGrpSpPr>
            <p:grpSpPr>
              <a:xfrm>
                <a:off x="2306160" y="4049640"/>
                <a:ext cx="3325320" cy="2425320"/>
                <a:chOff x="2306160" y="4049640"/>
                <a:chExt cx="3325320" cy="2425320"/>
              </a:xfrm>
            </p:grpSpPr>
            <p:grpSp>
              <p:nvGrpSpPr>
                <p:cNvPr id="792" name="Group 133"/>
                <p:cNvGrpSpPr/>
                <p:nvPr/>
              </p:nvGrpSpPr>
              <p:grpSpPr>
                <a:xfrm>
                  <a:off x="3385440" y="4181040"/>
                  <a:ext cx="222480" cy="25920"/>
                  <a:chOff x="3385440" y="4181040"/>
                  <a:chExt cx="222480" cy="25920"/>
                </a:xfrm>
              </p:grpSpPr>
              <p:grpSp>
                <p:nvGrpSpPr>
                  <p:cNvPr id="793" name="Group 134"/>
                  <p:cNvGrpSpPr/>
                  <p:nvPr/>
                </p:nvGrpSpPr>
                <p:grpSpPr>
                  <a:xfrm>
                    <a:off x="3534120" y="4181040"/>
                    <a:ext cx="73800" cy="25920"/>
                    <a:chOff x="3534120" y="4181040"/>
                    <a:chExt cx="73800" cy="25920"/>
                  </a:xfrm>
                </p:grpSpPr>
                <p:sp>
                  <p:nvSpPr>
                    <p:cNvPr id="794" name="Line 135"/>
                    <p:cNvSpPr/>
                    <p:nvPr/>
                  </p:nvSpPr>
                  <p:spPr>
                    <a:xfrm>
                      <a:off x="3534120" y="418104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95" name="Line 136"/>
                    <p:cNvSpPr/>
                    <p:nvPr/>
                  </p:nvSpPr>
                  <p:spPr>
                    <a:xfrm flipV="1">
                      <a:off x="3534120" y="419400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96" name="Line 137"/>
                  <p:cNvSpPr/>
                  <p:nvPr/>
                </p:nvSpPr>
                <p:spPr>
                  <a:xfrm>
                    <a:off x="3385440" y="4192920"/>
                    <a:ext cx="175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97" name="Line 138"/>
                <p:cNvSpPr/>
                <p:nvPr/>
              </p:nvSpPr>
              <p:spPr>
                <a:xfrm>
                  <a:off x="3620520" y="4049640"/>
                  <a:ext cx="0" cy="27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98" name="Line 139"/>
                <p:cNvSpPr/>
                <p:nvPr/>
              </p:nvSpPr>
              <p:spPr>
                <a:xfrm>
                  <a:off x="4355640" y="4049640"/>
                  <a:ext cx="0" cy="27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99" name="Group 140"/>
                <p:cNvGrpSpPr/>
                <p:nvPr/>
              </p:nvGrpSpPr>
              <p:grpSpPr>
                <a:xfrm>
                  <a:off x="3671640" y="5412960"/>
                  <a:ext cx="613440" cy="25920"/>
                  <a:chOff x="3671640" y="5412960"/>
                  <a:chExt cx="613440" cy="25920"/>
                </a:xfrm>
              </p:grpSpPr>
              <p:grpSp>
                <p:nvGrpSpPr>
                  <p:cNvPr id="800" name="Group 141"/>
                  <p:cNvGrpSpPr/>
                  <p:nvPr/>
                </p:nvGrpSpPr>
                <p:grpSpPr>
                  <a:xfrm>
                    <a:off x="3671640" y="5412960"/>
                    <a:ext cx="73800" cy="25920"/>
                    <a:chOff x="3671640" y="5412960"/>
                    <a:chExt cx="73800" cy="25920"/>
                  </a:xfrm>
                </p:grpSpPr>
                <p:sp>
                  <p:nvSpPr>
                    <p:cNvPr id="801" name="Line 142"/>
                    <p:cNvSpPr/>
                    <p:nvPr/>
                  </p:nvSpPr>
                  <p:spPr>
                    <a:xfrm flipH="1" flipV="1">
                      <a:off x="3671640" y="542592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02" name="Line 143"/>
                    <p:cNvSpPr/>
                    <p:nvPr/>
                  </p:nvSpPr>
                  <p:spPr>
                    <a:xfrm flipH="1">
                      <a:off x="3671640" y="541296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03" name="Line 144"/>
                  <p:cNvSpPr/>
                  <p:nvPr/>
                </p:nvSpPr>
                <p:spPr>
                  <a:xfrm flipH="1">
                    <a:off x="3681720" y="5423760"/>
                    <a:ext cx="603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804" name="Group 145"/>
                <p:cNvGrpSpPr/>
                <p:nvPr/>
              </p:nvGrpSpPr>
              <p:grpSpPr>
                <a:xfrm>
                  <a:off x="2604600" y="4327200"/>
                  <a:ext cx="2773080" cy="970200"/>
                  <a:chOff x="2604600" y="4327200"/>
                  <a:chExt cx="2773080" cy="970200"/>
                </a:xfrm>
              </p:grpSpPr>
              <p:sp>
                <p:nvSpPr>
                  <p:cNvPr id="805" name="Rectangle 146"/>
                  <p:cNvSpPr/>
                  <p:nvPr/>
                </p:nvSpPr>
                <p:spPr>
                  <a:xfrm>
                    <a:off x="2604600" y="4327200"/>
                    <a:ext cx="2773080" cy="97020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06" name="AutoShape 147"/>
                  <p:cNvSpPr/>
                  <p:nvPr/>
                </p:nvSpPr>
                <p:spPr>
                  <a:xfrm>
                    <a:off x="4111920" y="44658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07" name="Line 148"/>
                  <p:cNvSpPr/>
                  <p:nvPr/>
                </p:nvSpPr>
                <p:spPr>
                  <a:xfrm>
                    <a:off x="399168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08" name="AutoShape 149"/>
                  <p:cNvSpPr/>
                  <p:nvPr/>
                </p:nvSpPr>
                <p:spPr>
                  <a:xfrm>
                    <a:off x="443196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09" name="AutoShape 150"/>
                  <p:cNvSpPr/>
                  <p:nvPr/>
                </p:nvSpPr>
                <p:spPr>
                  <a:xfrm>
                    <a:off x="4752360" y="44658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0" name="AutoShape 151"/>
                  <p:cNvSpPr/>
                  <p:nvPr/>
                </p:nvSpPr>
                <p:spPr>
                  <a:xfrm>
                    <a:off x="4111920" y="47430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1" name="AutoShape 152"/>
                  <p:cNvSpPr/>
                  <p:nvPr/>
                </p:nvSpPr>
                <p:spPr>
                  <a:xfrm>
                    <a:off x="4111920" y="50202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2" name="AutoShape 153"/>
                  <p:cNvSpPr/>
                  <p:nvPr/>
                </p:nvSpPr>
                <p:spPr>
                  <a:xfrm>
                    <a:off x="443196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3" name="AutoShape 154"/>
                  <p:cNvSpPr/>
                  <p:nvPr/>
                </p:nvSpPr>
                <p:spPr>
                  <a:xfrm>
                    <a:off x="443196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4" name="AutoShape 155"/>
                  <p:cNvSpPr/>
                  <p:nvPr/>
                </p:nvSpPr>
                <p:spPr>
                  <a:xfrm>
                    <a:off x="4752360" y="50202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5" name="AutoShape 156"/>
                  <p:cNvSpPr/>
                  <p:nvPr/>
                </p:nvSpPr>
                <p:spPr>
                  <a:xfrm>
                    <a:off x="4752360" y="47430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grpSp>
                <p:nvGrpSpPr>
                  <p:cNvPr id="816" name="Group 157"/>
                  <p:cNvGrpSpPr/>
                  <p:nvPr/>
                </p:nvGrpSpPr>
                <p:grpSpPr>
                  <a:xfrm>
                    <a:off x="3071160" y="4465800"/>
                    <a:ext cx="151200" cy="150840"/>
                    <a:chOff x="3071160" y="4465800"/>
                    <a:chExt cx="151200" cy="150840"/>
                  </a:xfrm>
                </p:grpSpPr>
                <p:sp>
                  <p:nvSpPr>
                    <p:cNvPr id="817" name="Oval 158"/>
                    <p:cNvSpPr/>
                    <p:nvPr/>
                  </p:nvSpPr>
                  <p:spPr>
                    <a:xfrm>
                      <a:off x="3071160" y="44658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18" name="Line 159"/>
                    <p:cNvSpPr/>
                    <p:nvPr/>
                  </p:nvSpPr>
                  <p:spPr>
                    <a:xfrm>
                      <a:off x="3071160" y="45435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19" name="Group 160"/>
                  <p:cNvGrpSpPr/>
                  <p:nvPr/>
                </p:nvGrpSpPr>
                <p:grpSpPr>
                  <a:xfrm>
                    <a:off x="3711600" y="4465800"/>
                    <a:ext cx="151200" cy="150840"/>
                    <a:chOff x="3711600" y="4465800"/>
                    <a:chExt cx="151200" cy="150840"/>
                  </a:xfrm>
                </p:grpSpPr>
                <p:sp>
                  <p:nvSpPr>
                    <p:cNvPr id="820" name="Oval 161"/>
                    <p:cNvSpPr/>
                    <p:nvPr/>
                  </p:nvSpPr>
                  <p:spPr>
                    <a:xfrm>
                      <a:off x="3711600" y="44658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21" name="Line 162"/>
                    <p:cNvSpPr/>
                    <p:nvPr/>
                  </p:nvSpPr>
                  <p:spPr>
                    <a:xfrm>
                      <a:off x="3711600" y="45435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22" name="Group 163"/>
                  <p:cNvGrpSpPr/>
                  <p:nvPr/>
                </p:nvGrpSpPr>
                <p:grpSpPr>
                  <a:xfrm>
                    <a:off x="3391560" y="4465800"/>
                    <a:ext cx="150840" cy="150840"/>
                    <a:chOff x="3391560" y="4465800"/>
                    <a:chExt cx="150840" cy="150840"/>
                  </a:xfrm>
                </p:grpSpPr>
                <p:sp>
                  <p:nvSpPr>
                    <p:cNvPr id="823" name="Oval 164"/>
                    <p:cNvSpPr/>
                    <p:nvPr/>
                  </p:nvSpPr>
                  <p:spPr>
                    <a:xfrm>
                      <a:off x="3391560" y="44658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24" name="Line 165"/>
                    <p:cNvSpPr/>
                    <p:nvPr/>
                  </p:nvSpPr>
                  <p:spPr>
                    <a:xfrm>
                      <a:off x="3391560" y="45435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25" name="Group 166"/>
                  <p:cNvGrpSpPr/>
                  <p:nvPr/>
                </p:nvGrpSpPr>
                <p:grpSpPr>
                  <a:xfrm>
                    <a:off x="3071160" y="4743000"/>
                    <a:ext cx="151200" cy="150840"/>
                    <a:chOff x="3071160" y="4743000"/>
                    <a:chExt cx="151200" cy="150840"/>
                  </a:xfrm>
                </p:grpSpPr>
                <p:sp>
                  <p:nvSpPr>
                    <p:cNvPr id="826" name="Oval 167"/>
                    <p:cNvSpPr/>
                    <p:nvPr/>
                  </p:nvSpPr>
                  <p:spPr>
                    <a:xfrm>
                      <a:off x="3071160" y="47430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27" name="Line 168"/>
                    <p:cNvSpPr/>
                    <p:nvPr/>
                  </p:nvSpPr>
                  <p:spPr>
                    <a:xfrm>
                      <a:off x="3071160" y="48207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28" name="Group 169"/>
                  <p:cNvGrpSpPr/>
                  <p:nvPr/>
                </p:nvGrpSpPr>
                <p:grpSpPr>
                  <a:xfrm>
                    <a:off x="3391560" y="4743000"/>
                    <a:ext cx="150840" cy="150840"/>
                    <a:chOff x="3391560" y="4743000"/>
                    <a:chExt cx="150840" cy="150840"/>
                  </a:xfrm>
                </p:grpSpPr>
                <p:sp>
                  <p:nvSpPr>
                    <p:cNvPr id="829" name="Oval 170"/>
                    <p:cNvSpPr/>
                    <p:nvPr/>
                  </p:nvSpPr>
                  <p:spPr>
                    <a:xfrm>
                      <a:off x="3391560" y="47430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30" name="Line 171"/>
                    <p:cNvSpPr/>
                    <p:nvPr/>
                  </p:nvSpPr>
                  <p:spPr>
                    <a:xfrm>
                      <a:off x="3391560" y="48207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31" name="Group 172"/>
                  <p:cNvGrpSpPr/>
                  <p:nvPr/>
                </p:nvGrpSpPr>
                <p:grpSpPr>
                  <a:xfrm>
                    <a:off x="3711600" y="4743000"/>
                    <a:ext cx="151200" cy="150840"/>
                    <a:chOff x="3711600" y="4743000"/>
                    <a:chExt cx="151200" cy="150840"/>
                  </a:xfrm>
                </p:grpSpPr>
                <p:sp>
                  <p:nvSpPr>
                    <p:cNvPr id="832" name="Oval 173"/>
                    <p:cNvSpPr/>
                    <p:nvPr/>
                  </p:nvSpPr>
                  <p:spPr>
                    <a:xfrm>
                      <a:off x="3711600" y="47430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33" name="Line 174"/>
                    <p:cNvSpPr/>
                    <p:nvPr/>
                  </p:nvSpPr>
                  <p:spPr>
                    <a:xfrm>
                      <a:off x="3711600" y="48207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34" name="Group 175"/>
                  <p:cNvGrpSpPr/>
                  <p:nvPr/>
                </p:nvGrpSpPr>
                <p:grpSpPr>
                  <a:xfrm>
                    <a:off x="3711600" y="5020200"/>
                    <a:ext cx="151200" cy="150840"/>
                    <a:chOff x="3711600" y="5020200"/>
                    <a:chExt cx="151200" cy="150840"/>
                  </a:xfrm>
                </p:grpSpPr>
                <p:sp>
                  <p:nvSpPr>
                    <p:cNvPr id="835" name="Oval 176"/>
                    <p:cNvSpPr/>
                    <p:nvPr/>
                  </p:nvSpPr>
                  <p:spPr>
                    <a:xfrm>
                      <a:off x="3711600" y="50202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36" name="Line 177"/>
                    <p:cNvSpPr/>
                    <p:nvPr/>
                  </p:nvSpPr>
                  <p:spPr>
                    <a:xfrm>
                      <a:off x="3711600" y="50979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37" name="Group 178"/>
                  <p:cNvGrpSpPr/>
                  <p:nvPr/>
                </p:nvGrpSpPr>
                <p:grpSpPr>
                  <a:xfrm>
                    <a:off x="3391560" y="5020200"/>
                    <a:ext cx="150840" cy="150840"/>
                    <a:chOff x="3391560" y="5020200"/>
                    <a:chExt cx="150840" cy="150840"/>
                  </a:xfrm>
                </p:grpSpPr>
                <p:sp>
                  <p:nvSpPr>
                    <p:cNvPr id="838" name="Oval 179"/>
                    <p:cNvSpPr/>
                    <p:nvPr/>
                  </p:nvSpPr>
                  <p:spPr>
                    <a:xfrm>
                      <a:off x="3391560" y="50202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39" name="Line 180"/>
                    <p:cNvSpPr/>
                    <p:nvPr/>
                  </p:nvSpPr>
                  <p:spPr>
                    <a:xfrm>
                      <a:off x="3391560" y="50979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40" name="Group 181"/>
                  <p:cNvGrpSpPr/>
                  <p:nvPr/>
                </p:nvGrpSpPr>
                <p:grpSpPr>
                  <a:xfrm>
                    <a:off x="3071160" y="5020200"/>
                    <a:ext cx="151200" cy="150840"/>
                    <a:chOff x="3071160" y="5020200"/>
                    <a:chExt cx="151200" cy="150840"/>
                  </a:xfrm>
                </p:grpSpPr>
                <p:sp>
                  <p:nvSpPr>
                    <p:cNvPr id="841" name="Oval 182"/>
                    <p:cNvSpPr/>
                    <p:nvPr/>
                  </p:nvSpPr>
                  <p:spPr>
                    <a:xfrm>
                      <a:off x="3071160" y="50202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42" name="Line 183"/>
                    <p:cNvSpPr/>
                    <p:nvPr/>
                  </p:nvSpPr>
                  <p:spPr>
                    <a:xfrm>
                      <a:off x="3071160" y="50979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43" name="Oval 184"/>
                  <p:cNvSpPr/>
                  <p:nvPr/>
                </p:nvSpPr>
                <p:spPr>
                  <a:xfrm>
                    <a:off x="2968920" y="4916880"/>
                    <a:ext cx="65520" cy="6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4" name="Oval 185"/>
                  <p:cNvSpPr/>
                  <p:nvPr/>
                </p:nvSpPr>
                <p:spPr>
                  <a:xfrm>
                    <a:off x="2937960" y="4393800"/>
                    <a:ext cx="6552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5" name="Oval 186"/>
                  <p:cNvSpPr/>
                  <p:nvPr/>
                </p:nvSpPr>
                <p:spPr>
                  <a:xfrm>
                    <a:off x="2684520" y="4644000"/>
                    <a:ext cx="65520" cy="6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6" name="Oval 187"/>
                  <p:cNvSpPr/>
                  <p:nvPr/>
                </p:nvSpPr>
                <p:spPr>
                  <a:xfrm>
                    <a:off x="2657880" y="4881600"/>
                    <a:ext cx="6552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7" name="Oval 188"/>
                  <p:cNvSpPr/>
                  <p:nvPr/>
                </p:nvSpPr>
                <p:spPr>
                  <a:xfrm>
                    <a:off x="2951280" y="5172120"/>
                    <a:ext cx="6552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8" name="Oval 189"/>
                  <p:cNvSpPr/>
                  <p:nvPr/>
                </p:nvSpPr>
                <p:spPr>
                  <a:xfrm>
                    <a:off x="4965840" y="4398840"/>
                    <a:ext cx="65520" cy="65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9" name="Oval 190"/>
                  <p:cNvSpPr/>
                  <p:nvPr/>
                </p:nvSpPr>
                <p:spPr>
                  <a:xfrm>
                    <a:off x="4952520" y="4631040"/>
                    <a:ext cx="65520" cy="65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50" name="Oval 191"/>
                  <p:cNvSpPr/>
                  <p:nvPr/>
                </p:nvSpPr>
                <p:spPr>
                  <a:xfrm>
                    <a:off x="4939200" y="517212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51" name="Oval 192"/>
                  <p:cNvSpPr/>
                  <p:nvPr/>
                </p:nvSpPr>
                <p:spPr>
                  <a:xfrm>
                    <a:off x="5232600" y="461772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52" name="Oval 193"/>
                  <p:cNvSpPr/>
                  <p:nvPr/>
                </p:nvSpPr>
                <p:spPr>
                  <a:xfrm>
                    <a:off x="5245920" y="494028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53" name="Oval 194"/>
                  <p:cNvSpPr/>
                  <p:nvPr/>
                </p:nvSpPr>
                <p:spPr>
                  <a:xfrm>
                    <a:off x="4979160" y="496152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grpSp>
                <p:nvGrpSpPr>
                  <p:cNvPr id="854" name="Group 195"/>
                  <p:cNvGrpSpPr/>
                  <p:nvPr/>
                </p:nvGrpSpPr>
                <p:grpSpPr>
                  <a:xfrm>
                    <a:off x="2751120" y="4465800"/>
                    <a:ext cx="150840" cy="150840"/>
                    <a:chOff x="2751120" y="4465800"/>
                    <a:chExt cx="150840" cy="150840"/>
                  </a:xfrm>
                </p:grpSpPr>
                <p:sp>
                  <p:nvSpPr>
                    <p:cNvPr id="855" name="Oval 196"/>
                    <p:cNvSpPr/>
                    <p:nvPr/>
                  </p:nvSpPr>
                  <p:spPr>
                    <a:xfrm>
                      <a:off x="2751120" y="44658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56" name="Line 197"/>
                    <p:cNvSpPr/>
                    <p:nvPr/>
                  </p:nvSpPr>
                  <p:spPr>
                    <a:xfrm>
                      <a:off x="2751120" y="45435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57" name="Group 198"/>
                  <p:cNvGrpSpPr/>
                  <p:nvPr/>
                </p:nvGrpSpPr>
                <p:grpSpPr>
                  <a:xfrm>
                    <a:off x="2751120" y="4743000"/>
                    <a:ext cx="150840" cy="150840"/>
                    <a:chOff x="2751120" y="4743000"/>
                    <a:chExt cx="150840" cy="150840"/>
                  </a:xfrm>
                </p:grpSpPr>
                <p:sp>
                  <p:nvSpPr>
                    <p:cNvPr id="858" name="Oval 199"/>
                    <p:cNvSpPr/>
                    <p:nvPr/>
                  </p:nvSpPr>
                  <p:spPr>
                    <a:xfrm>
                      <a:off x="2751120" y="47430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59" name="Line 200"/>
                    <p:cNvSpPr/>
                    <p:nvPr/>
                  </p:nvSpPr>
                  <p:spPr>
                    <a:xfrm>
                      <a:off x="2751120" y="48207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60" name="Group 201"/>
                  <p:cNvGrpSpPr/>
                  <p:nvPr/>
                </p:nvGrpSpPr>
                <p:grpSpPr>
                  <a:xfrm>
                    <a:off x="2751120" y="5020200"/>
                    <a:ext cx="150840" cy="150840"/>
                    <a:chOff x="2751120" y="5020200"/>
                    <a:chExt cx="150840" cy="150840"/>
                  </a:xfrm>
                </p:grpSpPr>
                <p:sp>
                  <p:nvSpPr>
                    <p:cNvPr id="861" name="Oval 202"/>
                    <p:cNvSpPr/>
                    <p:nvPr/>
                  </p:nvSpPr>
                  <p:spPr>
                    <a:xfrm>
                      <a:off x="2751120" y="50202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62" name="Line 203"/>
                    <p:cNvSpPr/>
                    <p:nvPr/>
                  </p:nvSpPr>
                  <p:spPr>
                    <a:xfrm>
                      <a:off x="2751120" y="50979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63" name="AutoShape 204"/>
                  <p:cNvSpPr/>
                  <p:nvPr/>
                </p:nvSpPr>
                <p:spPr>
                  <a:xfrm>
                    <a:off x="507240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4" name="AutoShape 205"/>
                  <p:cNvSpPr/>
                  <p:nvPr/>
                </p:nvSpPr>
                <p:spPr>
                  <a:xfrm>
                    <a:off x="507240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5" name="AutoShape 206"/>
                  <p:cNvSpPr/>
                  <p:nvPr/>
                </p:nvSpPr>
                <p:spPr>
                  <a:xfrm>
                    <a:off x="507240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6" name="Line 207"/>
                  <p:cNvSpPr/>
                  <p:nvPr/>
                </p:nvSpPr>
                <p:spPr>
                  <a:xfrm>
                    <a:off x="361836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7" name="Line 208"/>
                  <p:cNvSpPr/>
                  <p:nvPr/>
                </p:nvSpPr>
                <p:spPr>
                  <a:xfrm>
                    <a:off x="435204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8" name="Oval 209"/>
                  <p:cNvSpPr/>
                  <p:nvPr/>
                </p:nvSpPr>
                <p:spPr>
                  <a:xfrm>
                    <a:off x="3271320" y="4393800"/>
                    <a:ext cx="6588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9" name="Oval 210"/>
                  <p:cNvSpPr/>
                  <p:nvPr/>
                </p:nvSpPr>
                <p:spPr>
                  <a:xfrm>
                    <a:off x="3258000" y="4934880"/>
                    <a:ext cx="65880" cy="6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70" name="Oval 211"/>
                  <p:cNvSpPr/>
                  <p:nvPr/>
                </p:nvSpPr>
                <p:spPr>
                  <a:xfrm>
                    <a:off x="3244680" y="4657680"/>
                    <a:ext cx="6552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71" name="Oval 212"/>
                  <p:cNvSpPr/>
                  <p:nvPr/>
                </p:nvSpPr>
                <p:spPr>
                  <a:xfrm>
                    <a:off x="3271320" y="5158800"/>
                    <a:ext cx="6588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72" name="Oval 213"/>
                  <p:cNvSpPr/>
                  <p:nvPr/>
                </p:nvSpPr>
                <p:spPr>
                  <a:xfrm>
                    <a:off x="4632120" y="4398840"/>
                    <a:ext cx="65880" cy="65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73" name="Oval 214"/>
                  <p:cNvSpPr/>
                  <p:nvPr/>
                </p:nvSpPr>
                <p:spPr>
                  <a:xfrm>
                    <a:off x="4618800" y="474300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74" name="Oval 215"/>
                  <p:cNvSpPr/>
                  <p:nvPr/>
                </p:nvSpPr>
                <p:spPr>
                  <a:xfrm>
                    <a:off x="4632120" y="5158800"/>
                    <a:ext cx="6588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875" name="Group 216"/>
                <p:cNvGrpSpPr/>
                <p:nvPr/>
              </p:nvGrpSpPr>
              <p:grpSpPr>
                <a:xfrm>
                  <a:off x="3670200" y="5630400"/>
                  <a:ext cx="614520" cy="25920"/>
                  <a:chOff x="3670200" y="5630400"/>
                  <a:chExt cx="614520" cy="25920"/>
                </a:xfrm>
              </p:grpSpPr>
              <p:grpSp>
                <p:nvGrpSpPr>
                  <p:cNvPr id="876" name="Group 217"/>
                  <p:cNvGrpSpPr/>
                  <p:nvPr/>
                </p:nvGrpSpPr>
                <p:grpSpPr>
                  <a:xfrm>
                    <a:off x="4210560" y="5630400"/>
                    <a:ext cx="74160" cy="25920"/>
                    <a:chOff x="4210560" y="5630400"/>
                    <a:chExt cx="74160" cy="25920"/>
                  </a:xfrm>
                </p:grpSpPr>
                <p:sp>
                  <p:nvSpPr>
                    <p:cNvPr id="877" name="Line 218"/>
                    <p:cNvSpPr/>
                    <p:nvPr/>
                  </p:nvSpPr>
                  <p:spPr>
                    <a:xfrm>
                      <a:off x="4210560" y="563040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78" name="Line 219"/>
                    <p:cNvSpPr/>
                    <p:nvPr/>
                  </p:nvSpPr>
                  <p:spPr>
                    <a:xfrm flipV="1">
                      <a:off x="4210560" y="564336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79" name="Line 220"/>
                  <p:cNvSpPr/>
                  <p:nvPr/>
                </p:nvSpPr>
                <p:spPr>
                  <a:xfrm>
                    <a:off x="3670200" y="5645520"/>
                    <a:ext cx="604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880" name="Line 221"/>
                <p:cNvSpPr/>
                <p:nvPr/>
              </p:nvSpPr>
              <p:spPr>
                <a:xfrm>
                  <a:off x="2609280" y="5435280"/>
                  <a:ext cx="0" cy="69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881" name="Group 222"/>
                <p:cNvGrpSpPr/>
                <p:nvPr/>
              </p:nvGrpSpPr>
              <p:grpSpPr>
                <a:xfrm>
                  <a:off x="4362480" y="4181040"/>
                  <a:ext cx="224640" cy="25920"/>
                  <a:chOff x="4362480" y="4181040"/>
                  <a:chExt cx="224640" cy="25920"/>
                </a:xfrm>
              </p:grpSpPr>
              <p:grpSp>
                <p:nvGrpSpPr>
                  <p:cNvPr id="882" name="Group 223"/>
                  <p:cNvGrpSpPr/>
                  <p:nvPr/>
                </p:nvGrpSpPr>
                <p:grpSpPr>
                  <a:xfrm>
                    <a:off x="4362480" y="4181040"/>
                    <a:ext cx="74520" cy="25920"/>
                    <a:chOff x="4362480" y="4181040"/>
                    <a:chExt cx="74520" cy="25920"/>
                  </a:xfrm>
                </p:grpSpPr>
                <p:sp>
                  <p:nvSpPr>
                    <p:cNvPr id="883" name="Line 224"/>
                    <p:cNvSpPr/>
                    <p:nvPr/>
                  </p:nvSpPr>
                  <p:spPr>
                    <a:xfrm flipH="1" flipV="1">
                      <a:off x="4362480" y="4194000"/>
                      <a:ext cx="7452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84" name="Line 225"/>
                    <p:cNvSpPr/>
                    <p:nvPr/>
                  </p:nvSpPr>
                  <p:spPr>
                    <a:xfrm flipH="1">
                      <a:off x="4362480" y="4181040"/>
                      <a:ext cx="7452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85" name="Line 226"/>
                  <p:cNvSpPr/>
                  <p:nvPr/>
                </p:nvSpPr>
                <p:spPr>
                  <a:xfrm flipH="1">
                    <a:off x="4410360" y="4195080"/>
                    <a:ext cx="1767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886" name="Line 227"/>
                <p:cNvSpPr/>
                <p:nvPr/>
              </p:nvSpPr>
              <p:spPr>
                <a:xfrm>
                  <a:off x="5373000" y="5435280"/>
                  <a:ext cx="0" cy="69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887" name="Group 228"/>
                <p:cNvGrpSpPr/>
                <p:nvPr/>
              </p:nvGrpSpPr>
              <p:grpSpPr>
                <a:xfrm>
                  <a:off x="4117320" y="5914800"/>
                  <a:ext cx="1243800" cy="24120"/>
                  <a:chOff x="4117320" y="5914800"/>
                  <a:chExt cx="1243800" cy="24120"/>
                </a:xfrm>
              </p:grpSpPr>
              <p:grpSp>
                <p:nvGrpSpPr>
                  <p:cNvPr id="888" name="Group 229"/>
                  <p:cNvGrpSpPr/>
                  <p:nvPr/>
                </p:nvGrpSpPr>
                <p:grpSpPr>
                  <a:xfrm>
                    <a:off x="5286960" y="5914800"/>
                    <a:ext cx="74160" cy="24120"/>
                    <a:chOff x="5286960" y="5914800"/>
                    <a:chExt cx="74160" cy="24120"/>
                  </a:xfrm>
                </p:grpSpPr>
                <p:sp>
                  <p:nvSpPr>
                    <p:cNvPr id="889" name="Line 230"/>
                    <p:cNvSpPr/>
                    <p:nvPr/>
                  </p:nvSpPr>
                  <p:spPr>
                    <a:xfrm>
                      <a:off x="5286960" y="591480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90" name="Line 231"/>
                    <p:cNvSpPr/>
                    <p:nvPr/>
                  </p:nvSpPr>
                  <p:spPr>
                    <a:xfrm flipV="1">
                      <a:off x="5286960" y="592596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91" name="Line 232"/>
                  <p:cNvSpPr/>
                  <p:nvPr/>
                </p:nvSpPr>
                <p:spPr>
                  <a:xfrm>
                    <a:off x="4117320" y="5927040"/>
                    <a:ext cx="12106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892" name="Group 233"/>
                <p:cNvGrpSpPr/>
                <p:nvPr/>
              </p:nvGrpSpPr>
              <p:grpSpPr>
                <a:xfrm>
                  <a:off x="2619720" y="5917680"/>
                  <a:ext cx="1243440" cy="25560"/>
                  <a:chOff x="2619720" y="5917680"/>
                  <a:chExt cx="1243440" cy="25560"/>
                </a:xfrm>
              </p:grpSpPr>
              <p:grpSp>
                <p:nvGrpSpPr>
                  <p:cNvPr id="893" name="Group 234"/>
                  <p:cNvGrpSpPr/>
                  <p:nvPr/>
                </p:nvGrpSpPr>
                <p:grpSpPr>
                  <a:xfrm>
                    <a:off x="2619720" y="5917680"/>
                    <a:ext cx="74160" cy="25560"/>
                    <a:chOff x="2619720" y="5917680"/>
                    <a:chExt cx="74160" cy="25560"/>
                  </a:xfrm>
                </p:grpSpPr>
                <p:sp>
                  <p:nvSpPr>
                    <p:cNvPr id="894" name="Line 235"/>
                    <p:cNvSpPr/>
                    <p:nvPr/>
                  </p:nvSpPr>
                  <p:spPr>
                    <a:xfrm flipH="1" flipV="1">
                      <a:off x="2619720" y="593028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95" name="Line 236"/>
                    <p:cNvSpPr/>
                    <p:nvPr/>
                  </p:nvSpPr>
                  <p:spPr>
                    <a:xfrm flipH="1">
                      <a:off x="2619720" y="591768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96" name="Line 237"/>
                  <p:cNvSpPr/>
                  <p:nvPr/>
                </p:nvSpPr>
                <p:spPr>
                  <a:xfrm flipH="1">
                    <a:off x="2652840" y="5930280"/>
                    <a:ext cx="1210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897" name="Line 238"/>
                <p:cNvSpPr/>
                <p:nvPr/>
              </p:nvSpPr>
              <p:spPr>
                <a:xfrm flipH="1">
                  <a:off x="2391480" y="4822560"/>
                  <a:ext cx="201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898" name="Line 239"/>
                <p:cNvSpPr/>
                <p:nvPr/>
              </p:nvSpPr>
              <p:spPr>
                <a:xfrm flipH="1">
                  <a:off x="5379480" y="4822560"/>
                  <a:ext cx="203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899" name="Line 240"/>
                <p:cNvSpPr/>
                <p:nvPr/>
              </p:nvSpPr>
              <p:spPr>
                <a:xfrm>
                  <a:off x="2391840" y="4822560"/>
                  <a:ext cx="0" cy="1525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00" name="Line 241"/>
                <p:cNvSpPr/>
                <p:nvPr/>
              </p:nvSpPr>
              <p:spPr>
                <a:xfrm>
                  <a:off x="5593680" y="4822560"/>
                  <a:ext cx="0" cy="1525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01" name="Line 242"/>
                <p:cNvSpPr/>
                <p:nvPr/>
              </p:nvSpPr>
              <p:spPr>
                <a:xfrm>
                  <a:off x="2391840" y="6348240"/>
                  <a:ext cx="1441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902" name="Group 243"/>
                <p:cNvGrpSpPr/>
                <p:nvPr/>
              </p:nvGrpSpPr>
              <p:grpSpPr>
                <a:xfrm>
                  <a:off x="3837960" y="6224040"/>
                  <a:ext cx="50400" cy="250920"/>
                  <a:chOff x="3837960" y="6224040"/>
                  <a:chExt cx="50400" cy="250920"/>
                </a:xfrm>
              </p:grpSpPr>
              <p:sp>
                <p:nvSpPr>
                  <p:cNvPr id="903" name="Line 244"/>
                  <p:cNvSpPr/>
                  <p:nvPr/>
                </p:nvSpPr>
                <p:spPr>
                  <a:xfrm flipV="1">
                    <a:off x="3837960" y="62240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904" name="Line 245"/>
                  <p:cNvSpPr/>
                  <p:nvPr/>
                </p:nvSpPr>
                <p:spPr>
                  <a:xfrm flipV="1">
                    <a:off x="3888360" y="6288480"/>
                    <a:ext cx="0" cy="125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905" name="Group 246"/>
                <p:cNvGrpSpPr/>
                <p:nvPr/>
              </p:nvGrpSpPr>
              <p:grpSpPr>
                <a:xfrm>
                  <a:off x="3936600" y="6224040"/>
                  <a:ext cx="48600" cy="250920"/>
                  <a:chOff x="3936600" y="6224040"/>
                  <a:chExt cx="48600" cy="250920"/>
                </a:xfrm>
              </p:grpSpPr>
              <p:sp>
                <p:nvSpPr>
                  <p:cNvPr id="906" name="Line 247"/>
                  <p:cNvSpPr/>
                  <p:nvPr/>
                </p:nvSpPr>
                <p:spPr>
                  <a:xfrm flipV="1">
                    <a:off x="3936600" y="62240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907" name="Line 248"/>
                  <p:cNvSpPr/>
                  <p:nvPr/>
                </p:nvSpPr>
                <p:spPr>
                  <a:xfrm flipV="1">
                    <a:off x="3985200" y="6288480"/>
                    <a:ext cx="0" cy="125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908" name="Line 249"/>
                <p:cNvSpPr/>
                <p:nvPr/>
              </p:nvSpPr>
              <p:spPr>
                <a:xfrm>
                  <a:off x="3992040" y="6348240"/>
                  <a:ext cx="1601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909" name="Group 250"/>
                <p:cNvGrpSpPr/>
                <p:nvPr/>
              </p:nvGrpSpPr>
              <p:grpSpPr>
                <a:xfrm>
                  <a:off x="2306160" y="5366160"/>
                  <a:ext cx="25560" cy="419760"/>
                  <a:chOff x="2306160" y="5366160"/>
                  <a:chExt cx="25560" cy="419760"/>
                </a:xfrm>
              </p:grpSpPr>
              <p:grpSp>
                <p:nvGrpSpPr>
                  <p:cNvPr id="910" name="Group 251"/>
                  <p:cNvGrpSpPr/>
                  <p:nvPr/>
                </p:nvGrpSpPr>
                <p:grpSpPr>
                  <a:xfrm>
                    <a:off x="2306160" y="5366160"/>
                    <a:ext cx="25560" cy="74160"/>
                    <a:chOff x="2306160" y="5366160"/>
                    <a:chExt cx="25560" cy="74160"/>
                  </a:xfrm>
                </p:grpSpPr>
                <p:sp>
                  <p:nvSpPr>
                    <p:cNvPr id="911" name="Line 252"/>
                    <p:cNvSpPr/>
                    <p:nvPr/>
                  </p:nvSpPr>
                  <p:spPr>
                    <a:xfrm flipV="1">
                      <a:off x="2306160" y="5366160"/>
                      <a:ext cx="12960" cy="74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912" name="Line 253"/>
                    <p:cNvSpPr/>
                    <p:nvPr/>
                  </p:nvSpPr>
                  <p:spPr>
                    <a:xfrm flipH="1" flipV="1">
                      <a:off x="2318760" y="5366160"/>
                      <a:ext cx="12960" cy="74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913" name="Line 254"/>
                  <p:cNvSpPr/>
                  <p:nvPr/>
                </p:nvSpPr>
                <p:spPr>
                  <a:xfrm flipV="1">
                    <a:off x="2316960" y="5381280"/>
                    <a:ext cx="0" cy="404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914" name="Rectangle 255"/>
                <p:cNvSpPr/>
                <p:nvPr/>
              </p:nvSpPr>
              <p:spPr>
                <a:xfrm>
                  <a:off x="5555880" y="5479920"/>
                  <a:ext cx="75600" cy="226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915" name="Group 256"/>
              <p:cNvGrpSpPr/>
              <p:nvPr/>
            </p:nvGrpSpPr>
            <p:grpSpPr>
              <a:xfrm>
                <a:off x="2187720" y="4062240"/>
                <a:ext cx="3715560" cy="2298600"/>
                <a:chOff x="2187720" y="4062240"/>
                <a:chExt cx="3715560" cy="2298600"/>
              </a:xfrm>
            </p:grpSpPr>
            <p:sp>
              <p:nvSpPr>
                <p:cNvPr id="916" name="Text Box 257"/>
                <p:cNvSpPr/>
                <p:nvPr/>
              </p:nvSpPr>
              <p:spPr>
                <a:xfrm>
                  <a:off x="3678120" y="6110280"/>
                  <a:ext cx="228240" cy="25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17" name="Text Box 258"/>
                <p:cNvSpPr/>
                <p:nvPr/>
              </p:nvSpPr>
              <p:spPr>
                <a:xfrm>
                  <a:off x="2936520" y="4074840"/>
                  <a:ext cx="456840" cy="2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P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18" name="Text Box 259"/>
                <p:cNvSpPr/>
                <p:nvPr/>
              </p:nvSpPr>
              <p:spPr>
                <a:xfrm>
                  <a:off x="4689360" y="4074840"/>
                  <a:ext cx="391680" cy="2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N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19" name="Text Box 260"/>
                <p:cNvSpPr/>
                <p:nvPr/>
              </p:nvSpPr>
              <p:spPr>
                <a:xfrm>
                  <a:off x="3590640" y="4062240"/>
                  <a:ext cx="780840" cy="2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耗尽层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0" name="Text Box 261"/>
                <p:cNvSpPr/>
                <p:nvPr/>
              </p:nvSpPr>
              <p:spPr>
                <a:xfrm>
                  <a:off x="4340160" y="5295600"/>
                  <a:ext cx="78048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内电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1" name="Text Box 262"/>
                <p:cNvSpPr/>
                <p:nvPr/>
              </p:nvSpPr>
              <p:spPr>
                <a:xfrm>
                  <a:off x="4340160" y="5519520"/>
                  <a:ext cx="78048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外电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2" name="Text Box 263"/>
                <p:cNvSpPr/>
                <p:nvPr/>
              </p:nvSpPr>
              <p:spPr>
                <a:xfrm>
                  <a:off x="3941640" y="5798880"/>
                  <a:ext cx="22824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U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3" name="Text Box 264"/>
                <p:cNvSpPr/>
                <p:nvPr/>
              </p:nvSpPr>
              <p:spPr>
                <a:xfrm>
                  <a:off x="2635200" y="5706720"/>
                  <a:ext cx="23112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4" name="Text Box 265"/>
                <p:cNvSpPr/>
                <p:nvPr/>
              </p:nvSpPr>
              <p:spPr>
                <a:xfrm>
                  <a:off x="5178240" y="5706720"/>
                  <a:ext cx="23148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5" name="Text Box 266"/>
                <p:cNvSpPr/>
                <p:nvPr/>
              </p:nvSpPr>
              <p:spPr>
                <a:xfrm>
                  <a:off x="2187720" y="5486400"/>
                  <a:ext cx="228240" cy="25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I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6" name="Text Box 267"/>
                <p:cNvSpPr/>
                <p:nvPr/>
              </p:nvSpPr>
              <p:spPr>
                <a:xfrm>
                  <a:off x="5673600" y="5460840"/>
                  <a:ext cx="229680" cy="17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</p:grpSp>
    </p:spTree>
  </p:cSld>
  <p:transition spd="slow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92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9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0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二极管的测量方法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31" name="组合 13"/>
          <p:cNvGrpSpPr/>
          <p:nvPr/>
        </p:nvGrpSpPr>
        <p:grpSpPr>
          <a:xfrm>
            <a:off x="379440" y="941400"/>
            <a:ext cx="11640960" cy="6340320"/>
            <a:chOff x="379440" y="941400"/>
            <a:chExt cx="11640960" cy="6340320"/>
          </a:xfrm>
        </p:grpSpPr>
        <p:sp>
          <p:nvSpPr>
            <p:cNvPr id="932" name="圆角矩形 1"/>
            <p:cNvSpPr/>
            <p:nvPr/>
          </p:nvSpPr>
          <p:spPr>
            <a:xfrm>
              <a:off x="379440" y="941400"/>
              <a:ext cx="11640960" cy="634032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3" name="文本框 15"/>
            <p:cNvSpPr/>
            <p:nvPr/>
          </p:nvSpPr>
          <p:spPr>
            <a:xfrm>
              <a:off x="597240" y="980640"/>
              <a:ext cx="113857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4" name="文本框 15"/>
            <p:cNvSpPr/>
            <p:nvPr/>
          </p:nvSpPr>
          <p:spPr>
            <a:xfrm>
              <a:off x="599400" y="1410840"/>
              <a:ext cx="11002320" cy="32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对一般小功率管；使用欧姆挡的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100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或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lk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位，而不宜使用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1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和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l0k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，当使用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1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时，由于万用表内阻很小，通过二极管的正向电流较大，可能烧毁管子；当使用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l0k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时，由于万用表电池的电压较高，加在二极管两端的反向电压也较高，易击穿管子。对大功率管，可选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1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。具体检测方法如下：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1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．性能判断：将两表笔任意接触晶体二极管两端，读出电阻值，再交换红黑表笔测量，读出电阻值。对正常的晶体二极管来讲，两次测量的阻值一定相差很大，阻值大的是反向电阻，阻值小的是正向电阻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2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．正、负极判断：在检测的电阻值一大一小的情况下，电阻值小的那次，万用表的黑表笔接的是二极管的正极，红表笔接的是二极管的负极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3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．硅、锗材料判断：硅材料二极管的正向电阻为数百至数千欧姆，反向电阻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lM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以上；锗材料二极管的正向电阻为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10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～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1000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，反向电阻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100 k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以上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936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7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8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二极管的运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39" name="组合 13"/>
          <p:cNvGrpSpPr/>
          <p:nvPr/>
        </p:nvGrpSpPr>
        <p:grpSpPr>
          <a:xfrm>
            <a:off x="379440" y="952560"/>
            <a:ext cx="11640960" cy="2716200"/>
            <a:chOff x="379440" y="952560"/>
            <a:chExt cx="11640960" cy="2716200"/>
          </a:xfrm>
        </p:grpSpPr>
        <p:sp>
          <p:nvSpPr>
            <p:cNvPr id="940" name="圆角矩形 1"/>
            <p:cNvSpPr/>
            <p:nvPr/>
          </p:nvSpPr>
          <p:spPr>
            <a:xfrm>
              <a:off x="379440" y="1131120"/>
              <a:ext cx="11640960" cy="253764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1" name="文本框 15"/>
            <p:cNvSpPr/>
            <p:nvPr/>
          </p:nvSpPr>
          <p:spPr>
            <a:xfrm>
              <a:off x="597240" y="952560"/>
              <a:ext cx="1138572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2" name="文本框 15"/>
            <p:cNvSpPr/>
            <p:nvPr/>
          </p:nvSpPr>
          <p:spPr>
            <a:xfrm>
              <a:off x="599400" y="1271520"/>
              <a:ext cx="1100232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二极管的整流运用，如下图所示，在变压器副边电压 为正的半个周期内，二极管正向导通，电流经二极管流向负载，在 上得到一个极性为上正下负的电压；而在 为负半周时，二极管反向截止，电流等于零。所以在负载电阻 两端得到的电压 的极性是单方向的，达到了整流的目的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943" name="图片 20" descr="1649818209(1)"/>
          <p:cNvPicPr/>
          <p:nvPr/>
        </p:nvPicPr>
        <p:blipFill>
          <a:blip r:embed="rId1"/>
          <a:stretch/>
        </p:blipFill>
        <p:spPr>
          <a:xfrm>
            <a:off x="1390680" y="3740040"/>
            <a:ext cx="4359240" cy="311796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21" descr="1649818259(1)"/>
          <p:cNvPicPr/>
          <p:nvPr/>
        </p:nvPicPr>
        <p:blipFill>
          <a:blip r:embed="rId2">
            <a:grayscl/>
          </a:blip>
          <a:stretch/>
        </p:blipFill>
        <p:spPr>
          <a:xfrm>
            <a:off x="6307200" y="3772080"/>
            <a:ext cx="4030560" cy="3085920"/>
          </a:xfrm>
          <a:prstGeom prst="rect">
            <a:avLst/>
          </a:prstGeom>
          <a:ln w="0">
            <a:noFill/>
          </a:ln>
        </p:spPr>
      </p:pic>
      <p:sp>
        <p:nvSpPr>
          <p:cNvPr id="945" name="文本框 22"/>
          <p:cNvSpPr/>
          <p:nvPr/>
        </p:nvSpPr>
        <p:spPr>
          <a:xfrm>
            <a:off x="1487520" y="1336680"/>
            <a:ext cx="96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1.</a:t>
            </a: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二极管的整流作用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94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8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9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二极管的运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50" name="组合 13"/>
          <p:cNvGrpSpPr/>
          <p:nvPr/>
        </p:nvGrpSpPr>
        <p:grpSpPr>
          <a:xfrm>
            <a:off x="379440" y="952560"/>
            <a:ext cx="7170840" cy="4813200"/>
            <a:chOff x="379440" y="952560"/>
            <a:chExt cx="7170840" cy="4813200"/>
          </a:xfrm>
        </p:grpSpPr>
        <p:sp>
          <p:nvSpPr>
            <p:cNvPr id="951" name="圆角矩形 1"/>
            <p:cNvSpPr/>
            <p:nvPr/>
          </p:nvSpPr>
          <p:spPr>
            <a:xfrm>
              <a:off x="379440" y="1269000"/>
              <a:ext cx="7170840" cy="449676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2" name="文本框 15"/>
            <p:cNvSpPr/>
            <p:nvPr/>
          </p:nvSpPr>
          <p:spPr>
            <a:xfrm>
              <a:off x="513720" y="952560"/>
              <a:ext cx="70135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3" name="文本框 15"/>
            <p:cNvSpPr/>
            <p:nvPr/>
          </p:nvSpPr>
          <p:spPr>
            <a:xfrm>
              <a:off x="514800" y="1518120"/>
              <a:ext cx="6777360" cy="22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即把某点的电位钳制在某一数值，其电路如右图所示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1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2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视为理想二极管，输入端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A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的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A=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电位 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B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的电位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B =0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，两个二极管的负极通过电阻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1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接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.12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的电源上。由于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A&gt; VB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，所以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1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优先导通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F=3V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2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反向截止。在这里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1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起钳位作用，将输出端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F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的电位钳制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，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2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起隔离作用，把输入端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B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和输出端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F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隔离开来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54" name="文本框 22"/>
          <p:cNvSpPr/>
          <p:nvPr/>
        </p:nvSpPr>
        <p:spPr>
          <a:xfrm>
            <a:off x="1487520" y="1336680"/>
            <a:ext cx="96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2.</a:t>
            </a: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二极管的钳位作用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55" name="图片 5" descr=""/>
          <p:cNvPicPr/>
          <p:nvPr/>
        </p:nvPicPr>
        <p:blipFill>
          <a:blip r:embed="rId1"/>
          <a:stretch/>
        </p:blipFill>
        <p:spPr>
          <a:xfrm>
            <a:off x="7777080" y="1316160"/>
            <a:ext cx="3997440" cy="439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95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8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9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二极管的运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60" name="组合 13"/>
          <p:cNvGrpSpPr/>
          <p:nvPr/>
        </p:nvGrpSpPr>
        <p:grpSpPr>
          <a:xfrm>
            <a:off x="379440" y="952560"/>
            <a:ext cx="11640960" cy="3173400"/>
            <a:chOff x="379440" y="952560"/>
            <a:chExt cx="11640960" cy="3173400"/>
          </a:xfrm>
        </p:grpSpPr>
        <p:sp>
          <p:nvSpPr>
            <p:cNvPr id="961" name="圆角矩形 1"/>
            <p:cNvSpPr/>
            <p:nvPr/>
          </p:nvSpPr>
          <p:spPr>
            <a:xfrm>
              <a:off x="379440" y="1131120"/>
              <a:ext cx="11640960" cy="299484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2" name="文本框 15"/>
            <p:cNvSpPr/>
            <p:nvPr/>
          </p:nvSpPr>
          <p:spPr>
            <a:xfrm>
              <a:off x="597240" y="952560"/>
              <a:ext cx="1138572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3" name="文本框 15"/>
            <p:cNvSpPr/>
            <p:nvPr/>
          </p:nvSpPr>
          <p:spPr>
            <a:xfrm>
              <a:off x="599400" y="1271520"/>
              <a:ext cx="1100232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利用二极管的单向导电性，将输入电压限定在要求的范围之内，叫做限幅。如图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5.10(a)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所示的双向限幅电路中，假设 、 为理想二极管。当输入电压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&gt;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时，二极管 因处在正向偏置而导通，二极管 因处在反向偏置而截止，此时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=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；当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&lt;.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时，同理可得，二极管 截止，二极管 导通，此时输出电压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=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；当 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.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与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+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之间时， 和 均截止，因此输出电压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=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。输入输出波形如图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5.10 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（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b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）利用这个限幅电路就可以把输入电压 的幅度加以限制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64" name="文本框 22"/>
          <p:cNvSpPr/>
          <p:nvPr/>
        </p:nvSpPr>
        <p:spPr>
          <a:xfrm>
            <a:off x="1487520" y="1336680"/>
            <a:ext cx="96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3.</a:t>
            </a: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二极管的限幅作用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65" name="Picture 4" descr=""/>
          <p:cNvPicPr/>
          <p:nvPr/>
        </p:nvPicPr>
        <p:blipFill>
          <a:blip r:embed="rId1">
            <a:grayscl/>
          </a:blip>
          <a:srcRect l="0" t="9221" r="0" b="0"/>
          <a:stretch/>
        </p:blipFill>
        <p:spPr>
          <a:xfrm>
            <a:off x="817560" y="4184640"/>
            <a:ext cx="4768920" cy="257328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2"/>
          <p:cNvSpPr/>
          <p:nvPr/>
        </p:nvSpPr>
        <p:spPr>
          <a:xfrm>
            <a:off x="7248600" y="4192560"/>
            <a:ext cx="2100744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967" name="对象 7"/>
          <p:cNvGraphicFramePr/>
          <p:nvPr/>
        </p:nvGraphicFramePr>
        <p:xfrm>
          <a:off x="7248600" y="4192560"/>
          <a:ext cx="3489120" cy="247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8" name="对象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48600" y="4192560"/>
                    <a:ext cx="348912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970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1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2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3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4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5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6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7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8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9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0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1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2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3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4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5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6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7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8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9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0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1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2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3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4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5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6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7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98" name="组合 34"/>
          <p:cNvGrpSpPr/>
          <p:nvPr/>
        </p:nvGrpSpPr>
        <p:grpSpPr>
          <a:xfrm>
            <a:off x="6383160" y="1542960"/>
            <a:ext cx="5008680" cy="3772080"/>
            <a:chOff x="6383160" y="1542960"/>
            <a:chExt cx="5008680" cy="3772080"/>
          </a:xfrm>
        </p:grpSpPr>
        <p:sp>
          <p:nvSpPr>
            <p:cNvPr id="999" name="文本框 35"/>
            <p:cNvSpPr/>
            <p:nvPr/>
          </p:nvSpPr>
          <p:spPr>
            <a:xfrm>
              <a:off x="6383160" y="1542960"/>
              <a:ext cx="5008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再接再厉</a:t>
              </a:r>
              <a:endParaRPr b="0" lang="en-US" sz="8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0" name="文本框 38"/>
            <p:cNvSpPr/>
            <p:nvPr/>
          </p:nvSpPr>
          <p:spPr>
            <a:xfrm>
              <a:off x="6454440" y="3957480"/>
              <a:ext cx="28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b3838"/>
                  </a:solidFill>
                  <a:latin typeface="思源黑体 CN Light"/>
                  <a:ea typeface="思源黑体 CN Light"/>
                </a:rPr>
                <a:t>引领世界，创造未来 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1" name="燕尾形 23"/>
            <p:cNvSpPr/>
            <p:nvPr/>
          </p:nvSpPr>
          <p:spPr>
            <a:xfrm>
              <a:off x="8534160" y="520092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任意多边形 26"/>
          <p:cNvSpPr/>
          <p:nvPr/>
        </p:nvSpPr>
        <p:spPr>
          <a:xfrm rot="18000000">
            <a:off x="-511920" y="-624960"/>
            <a:ext cx="2767320" cy="2826000"/>
          </a:xfrm>
          <a:custGeom>
            <a:avLst/>
            <a:gdLst/>
            <a:ahLst/>
            <a:rect l="l" t="t" r="r" b="b"/>
            <a:pathLst>
              <a:path w="1816444" h="1864752">
                <a:moveTo>
                  <a:pt x="110247" y="273208"/>
                </a:moveTo>
                <a:cubicBezTo>
                  <a:pt x="-291391" y="806608"/>
                  <a:pt x="507122" y="1827371"/>
                  <a:pt x="862722" y="1863883"/>
                </a:cubicBezTo>
                <a:cubicBezTo>
                  <a:pt x="1218322" y="1900395"/>
                  <a:pt x="1975560" y="776446"/>
                  <a:pt x="1786647" y="435133"/>
                </a:cubicBezTo>
                <a:cubicBezTo>
                  <a:pt x="1597734" y="93820"/>
                  <a:pt x="511885" y="-260192"/>
                  <a:pt x="110247" y="273208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33" name="组合 23"/>
          <p:cNvGrpSpPr/>
          <p:nvPr/>
        </p:nvGrpSpPr>
        <p:grpSpPr>
          <a:xfrm>
            <a:off x="2286000" y="1112760"/>
            <a:ext cx="6811920" cy="3934800"/>
            <a:chOff x="2286000" y="1112760"/>
            <a:chExt cx="6811920" cy="3934800"/>
          </a:xfrm>
        </p:grpSpPr>
        <p:grpSp>
          <p:nvGrpSpPr>
            <p:cNvPr id="534" name="同侧圆角矩形 10"/>
            <p:cNvGrpSpPr/>
            <p:nvPr/>
          </p:nvGrpSpPr>
          <p:grpSpPr>
            <a:xfrm>
              <a:off x="3803760" y="1112760"/>
              <a:ext cx="4205880" cy="2153520"/>
              <a:chOff x="3803760" y="1112760"/>
              <a:chExt cx="4205880" cy="2153520"/>
            </a:xfrm>
          </p:grpSpPr>
          <p:pic>
            <p:nvPicPr>
              <p:cNvPr id="535" name="同侧圆角矩形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3760" y="1112760"/>
                <a:ext cx="4205880" cy="21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" name=""/>
              <p:cNvSpPr/>
              <p:nvPr/>
            </p:nvSpPr>
            <p:spPr>
              <a:xfrm>
                <a:off x="3879360" y="1187280"/>
                <a:ext cx="4055040" cy="20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537" name="文本框 15"/>
            <p:cNvSpPr/>
            <p:nvPr/>
          </p:nvSpPr>
          <p:spPr>
            <a:xfrm>
              <a:off x="2286000" y="4404960"/>
              <a:ext cx="681192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汽车电路中二极管的装调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8" name="文本框 16"/>
            <p:cNvSpPr/>
            <p:nvPr/>
          </p:nvSpPr>
          <p:spPr>
            <a:xfrm>
              <a:off x="4055760" y="3605760"/>
              <a:ext cx="3593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任务</a:t>
              </a: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39" name="梯形 11"/>
          <p:cNvSpPr/>
          <p:nvPr/>
        </p:nvSpPr>
        <p:spPr>
          <a:xfrm rot="13500000">
            <a:off x="9878040" y="-599760"/>
            <a:ext cx="2084400" cy="1511640"/>
          </a:xfrm>
          <a:custGeom>
            <a:avLst/>
            <a:gdLst/>
            <a:ahLst/>
            <a:rect l="l" t="t" r="r" b="b"/>
            <a:pathLst>
              <a:path w="3746151" h="3028357">
                <a:moveTo>
                  <a:pt x="0" y="2967887"/>
                </a:moveTo>
                <a:cubicBezTo>
                  <a:pt x="220611" y="2085442"/>
                  <a:pt x="508349" y="1157031"/>
                  <a:pt x="1046460" y="350786"/>
                </a:cubicBezTo>
                <a:cubicBezTo>
                  <a:pt x="1492718" y="-90437"/>
                  <a:pt x="2221463" y="-130261"/>
                  <a:pt x="2671411" y="316001"/>
                </a:cubicBezTo>
                <a:cubicBezTo>
                  <a:pt x="3121360" y="762263"/>
                  <a:pt x="3493909" y="2180734"/>
                  <a:pt x="3746151" y="3028357"/>
                </a:cubicBezTo>
                <a:lnTo>
                  <a:pt x="0" y="2967887"/>
                </a:lnTo>
                <a:close/>
              </a:path>
            </a:pathLst>
          </a:custGeom>
          <a:gradFill rotWithShape="0">
            <a:gsLst>
              <a:gs pos="0">
                <a:srgbClr val="1f4e79"/>
              </a:gs>
              <a:gs pos="100000">
                <a:srgbClr val="1f4e79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0" name="任意多边形 27"/>
          <p:cNvSpPr/>
          <p:nvPr/>
        </p:nvSpPr>
        <p:spPr>
          <a:xfrm rot="1695600">
            <a:off x="9460080" y="5675400"/>
            <a:ext cx="2309760" cy="2365200"/>
          </a:xfrm>
          <a:custGeom>
            <a:avLst/>
            <a:gdLst/>
            <a:ahLst/>
            <a:rect l="l" t="t" r="r" b="b"/>
            <a:pathLst>
              <a:path w="1810119" h="1855080">
                <a:moveTo>
                  <a:pt x="110247" y="263564"/>
                </a:moveTo>
                <a:cubicBezTo>
                  <a:pt x="-291391" y="796964"/>
                  <a:pt x="507122" y="1817727"/>
                  <a:pt x="862722" y="1854239"/>
                </a:cubicBezTo>
                <a:cubicBezTo>
                  <a:pt x="1218322" y="1890751"/>
                  <a:pt x="1950160" y="728702"/>
                  <a:pt x="1786647" y="425489"/>
                </a:cubicBezTo>
                <a:cubicBezTo>
                  <a:pt x="1623134" y="122276"/>
                  <a:pt x="511885" y="-269836"/>
                  <a:pt x="110247" y="263564"/>
                </a:cubicBezTo>
                <a:close/>
              </a:path>
            </a:pathLst>
          </a:custGeom>
          <a:gradFill rotWithShape="0">
            <a:gsLst>
              <a:gs pos="0">
                <a:srgbClr val="1f4e79">
                  <a:alpha val="40000"/>
                </a:srgbClr>
              </a:gs>
              <a:gs pos="100000">
                <a:srgbClr val="1f4e79"/>
              </a:gs>
            </a:gsLst>
            <a:lin ang="19902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542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3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4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描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45" name="文本框 5"/>
          <p:cNvSpPr/>
          <p:nvPr/>
        </p:nvSpPr>
        <p:spPr>
          <a:xfrm>
            <a:off x="1477800" y="1101600"/>
            <a:ext cx="8956800" cy="50544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近光灯正常工作时候，车身控制模块（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BCM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）接收组合开关的信号，依据开关信号控制近光灯继电器的输出回路的通断，进而控制近光灯的点亮与熄灭。若近光灯无法被正常点亮，可能涉及到的相关部件是灯具、开关、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BCM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、继电器、保险、电源、线束、接插件等，要定位故障点，需要逐一进行排查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546" name="图片 1" descr="1649043263(1)"/>
          <p:cNvPicPr/>
          <p:nvPr/>
        </p:nvPicPr>
        <p:blipFill>
          <a:blip r:embed="rId1"/>
          <a:stretch/>
        </p:blipFill>
        <p:spPr>
          <a:xfrm>
            <a:off x="1849320" y="2919240"/>
            <a:ext cx="8380440" cy="3686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548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9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0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引导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51" name="文本框 5"/>
          <p:cNvSpPr/>
          <p:nvPr/>
        </p:nvSpPr>
        <p:spPr>
          <a:xfrm>
            <a:off x="1528920" y="2468520"/>
            <a:ext cx="8956440" cy="17398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汽车室内外都有哪些灯，这些灯分别都是什么作用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依据灯具发光原理的不同，汽车灯具可以分为哪些类型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2" name="文本框 2"/>
          <p:cNvSpPr/>
          <p:nvPr/>
        </p:nvSpPr>
        <p:spPr>
          <a:xfrm>
            <a:off x="1433520" y="1459080"/>
            <a:ext cx="895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请思考：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554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5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6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57" name="组合 15"/>
          <p:cNvGrpSpPr/>
          <p:nvPr/>
        </p:nvGrpSpPr>
        <p:grpSpPr>
          <a:xfrm>
            <a:off x="674640" y="1217520"/>
            <a:ext cx="10412640" cy="5330880"/>
            <a:chOff x="674640" y="1217520"/>
            <a:chExt cx="10412640" cy="5330880"/>
          </a:xfrm>
        </p:grpSpPr>
        <p:sp>
          <p:nvSpPr>
            <p:cNvPr id="558" name="圆角矩形 11"/>
            <p:cNvSpPr/>
            <p:nvPr/>
          </p:nvSpPr>
          <p:spPr>
            <a:xfrm>
              <a:off x="674640" y="1217520"/>
              <a:ext cx="10412640" cy="5330880"/>
            </a:xfrm>
            <a:prstGeom prst="roundRect">
              <a:avLst>
                <a:gd name="adj" fmla="val 5806"/>
              </a:avLst>
            </a:prstGeom>
            <a:noFill/>
            <a:ln w="12600">
              <a:solidFill>
                <a:srgbClr val="1f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9" name="文本框 17"/>
            <p:cNvSpPr/>
            <p:nvPr/>
          </p:nvSpPr>
          <p:spPr>
            <a:xfrm>
              <a:off x="936720" y="1482480"/>
              <a:ext cx="1002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半导体的概念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0" name="文本框 27"/>
            <p:cNvSpPr/>
            <p:nvPr/>
          </p:nvSpPr>
          <p:spPr>
            <a:xfrm>
              <a:off x="936000" y="2004840"/>
              <a:ext cx="98794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导电性能介于导体与绝缘体之间的物质称半导体。半导体的电阻率为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10.3~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。常用的半导体材料有晶体结构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561" name="Picture 23" descr=""/>
          <p:cNvPicPr/>
          <p:nvPr/>
        </p:nvPicPr>
        <p:blipFill>
          <a:blip r:embed="rId1"/>
          <a:stretch/>
        </p:blipFill>
        <p:spPr>
          <a:xfrm>
            <a:off x="949320" y="3606840"/>
            <a:ext cx="5108760" cy="27702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5" descr=""/>
          <p:cNvPicPr/>
          <p:nvPr/>
        </p:nvPicPr>
        <p:blipFill>
          <a:blip r:embed="rId2"/>
          <a:stretch/>
        </p:blipFill>
        <p:spPr>
          <a:xfrm>
            <a:off x="6161040" y="3616200"/>
            <a:ext cx="4818240" cy="2749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组合 2"/>
          <p:cNvGrpSpPr/>
          <p:nvPr/>
        </p:nvGrpSpPr>
        <p:grpSpPr>
          <a:xfrm>
            <a:off x="2451240" y="2554200"/>
            <a:ext cx="1514880" cy="418320"/>
            <a:chOff x="2451240" y="2554200"/>
            <a:chExt cx="1514880" cy="418320"/>
          </a:xfrm>
        </p:grpSpPr>
        <p:sp>
          <p:nvSpPr>
            <p:cNvPr id="564" name="矩形 4"/>
            <p:cNvSpPr/>
            <p:nvPr/>
          </p:nvSpPr>
          <p:spPr>
            <a:xfrm>
              <a:off x="3283920" y="257364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等线"/>
                  <a:ea typeface="思源黑体 CN Light"/>
                </a:rPr>
                <a:t>导   体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5" name="椭圆 5"/>
            <p:cNvSpPr/>
            <p:nvPr/>
          </p:nvSpPr>
          <p:spPr>
            <a:xfrm>
              <a:off x="2451240" y="2554200"/>
              <a:ext cx="398160" cy="399600"/>
            </a:xfrm>
            <a:prstGeom prst="ellipse">
              <a:avLst/>
            </a:prstGeom>
            <a:solidFill>
              <a:srgbClr val="1f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66" name="组合 6"/>
          <p:cNvGrpSpPr/>
          <p:nvPr/>
        </p:nvGrpSpPr>
        <p:grpSpPr>
          <a:xfrm>
            <a:off x="2451240" y="3129120"/>
            <a:ext cx="1514880" cy="411840"/>
            <a:chOff x="2451240" y="3129120"/>
            <a:chExt cx="1514880" cy="411840"/>
          </a:xfrm>
        </p:grpSpPr>
        <p:sp>
          <p:nvSpPr>
            <p:cNvPr id="567" name="矩形 7"/>
            <p:cNvSpPr/>
            <p:nvPr/>
          </p:nvSpPr>
          <p:spPr>
            <a:xfrm>
              <a:off x="3328200" y="31420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等线"/>
                  <a:ea typeface="思源黑体 CN Light"/>
                </a:rPr>
                <a:t>半导体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8" name="椭圆 8"/>
            <p:cNvSpPr/>
            <p:nvPr/>
          </p:nvSpPr>
          <p:spPr>
            <a:xfrm>
              <a:off x="2451240" y="3129120"/>
              <a:ext cx="398160" cy="3981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69" name="组合 10"/>
          <p:cNvGrpSpPr/>
          <p:nvPr/>
        </p:nvGrpSpPr>
        <p:grpSpPr>
          <a:xfrm>
            <a:off x="2451240" y="3673440"/>
            <a:ext cx="1514880" cy="418320"/>
            <a:chOff x="2451240" y="3673440"/>
            <a:chExt cx="1514880" cy="418320"/>
          </a:xfrm>
        </p:grpSpPr>
        <p:sp>
          <p:nvSpPr>
            <p:cNvPr id="570" name="矩形 13"/>
            <p:cNvSpPr/>
            <p:nvPr/>
          </p:nvSpPr>
          <p:spPr>
            <a:xfrm>
              <a:off x="3328200" y="36928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等线"/>
                  <a:ea typeface="思源黑体 CN Light"/>
                </a:rPr>
                <a:t>绝缘体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1" name="椭圆 15"/>
            <p:cNvSpPr/>
            <p:nvPr/>
          </p:nvSpPr>
          <p:spPr>
            <a:xfrm>
              <a:off x="2451240" y="3673440"/>
              <a:ext cx="398160" cy="397800"/>
            </a:xfrm>
            <a:prstGeom prst="ellipse">
              <a:avLst/>
            </a:prstGeom>
            <a:solidFill>
              <a:srgbClr val="1f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572" name="Picture 2" descr="F:\前项目资料\工作素材\PPT\400个常用ppt图标\400个常用ppt图标(347)_ppt宝藏_www.pptbz.com.png"/>
          <p:cNvPicPr/>
          <p:nvPr/>
        </p:nvPicPr>
        <p:blipFill>
          <a:blip r:embed="rId1"/>
          <a:stretch/>
        </p:blipFill>
        <p:spPr>
          <a:xfrm>
            <a:off x="700200" y="2505240"/>
            <a:ext cx="1684080" cy="1684080"/>
          </a:xfrm>
          <a:prstGeom prst="rect">
            <a:avLst/>
          </a:prstGeom>
          <a:ln w="0">
            <a:noFill/>
          </a:ln>
        </p:spPr>
      </p:pic>
      <p:sp>
        <p:nvSpPr>
          <p:cNvPr id="573" name="左大括号 17"/>
          <p:cNvSpPr/>
          <p:nvPr/>
        </p:nvSpPr>
        <p:spPr>
          <a:xfrm>
            <a:off x="4189320" y="2101680"/>
            <a:ext cx="300240" cy="2524320"/>
          </a:xfrm>
          <a:custGeom>
            <a:avLst/>
            <a:gdLst>
              <a:gd name="textAreaLeft" fmla="*/ 191880 w 300240"/>
              <a:gd name="textAreaRight" fmla="*/ 300240 w 300240"/>
              <a:gd name="textAreaTop" fmla="*/ 7560 h 2524320"/>
              <a:gd name="textAreaBottom" fmla="*/ 2516760 h 252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7"/>
                  <a:pt x="10800" y="214"/>
                </a:cubicBezTo>
                <a:lnTo>
                  <a:pt x="10800" y="10586"/>
                </a:lnTo>
                <a:cubicBezTo>
                  <a:pt x="10800" y="10693"/>
                  <a:pt x="5400" y="10800"/>
                  <a:pt x="0" y="10800"/>
                </a:cubicBezTo>
                <a:cubicBezTo>
                  <a:pt x="5400" y="10800"/>
                  <a:pt x="10800" y="10907"/>
                  <a:pt x="10800" y="11014"/>
                </a:cubicBezTo>
                <a:lnTo>
                  <a:pt x="10800" y="21386"/>
                </a:lnTo>
                <a:cubicBezTo>
                  <a:pt x="10800" y="2149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4" name="矩形 18"/>
          <p:cNvSpPr/>
          <p:nvPr/>
        </p:nvSpPr>
        <p:spPr>
          <a:xfrm>
            <a:off x="5922360" y="2303640"/>
            <a:ext cx="39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f4e79"/>
                </a:solidFill>
                <a:latin typeface="思源黑体 CN Light"/>
                <a:ea typeface="思源黑体 CN Light"/>
              </a:rPr>
              <a:t>掺杂特性：纯净的半导体掺入微量元素，电阻率变化很大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5" name="矩形 19"/>
          <p:cNvSpPr/>
          <p:nvPr/>
        </p:nvSpPr>
        <p:spPr>
          <a:xfrm>
            <a:off x="5456520" y="317988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f4e79"/>
                </a:solidFill>
                <a:latin typeface="思源黑体 CN Light"/>
                <a:ea typeface="思源黑体 CN Light"/>
              </a:rPr>
              <a:t>热敏特性：受热后导电能力显著增强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6" name="矩形 20"/>
          <p:cNvSpPr/>
          <p:nvPr/>
        </p:nvSpPr>
        <p:spPr>
          <a:xfrm>
            <a:off x="5588280" y="409572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f4e79"/>
                </a:solidFill>
                <a:latin typeface="思源黑体 CN Light"/>
                <a:ea typeface="思源黑体 CN Light"/>
              </a:rPr>
              <a:t>光敏特性：收到光照后，导电能力显著增强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577" name="直接箭头连接符 21"/>
          <p:cNvCxnSpPr/>
          <p:nvPr/>
        </p:nvCxnSpPr>
        <p:spPr>
          <a:xfrm>
            <a:off x="10156680" y="2708280"/>
            <a:ext cx="15120" cy="27295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578" name="矩形 22"/>
          <p:cNvSpPr/>
          <p:nvPr/>
        </p:nvSpPr>
        <p:spPr>
          <a:xfrm>
            <a:off x="6164280" y="5506920"/>
            <a:ext cx="28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纯硅中掺入百万分之一的硼后，电阻率从</a:t>
            </a:r>
            <a:r>
              <a:rPr b="0" lang="en-US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2×10</a:t>
            </a:r>
            <a:r>
              <a:rPr b="0" lang="en-US" sz="1800" spc="-1" strike="noStrike" baseline="30000">
                <a:solidFill>
                  <a:srgbClr val="00b050"/>
                </a:solidFill>
                <a:latin typeface="微软雅黑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Ωm</a:t>
            </a:r>
            <a:r>
              <a:rPr b="0" lang="zh-CN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变成</a:t>
            </a:r>
            <a:r>
              <a:rPr b="0" lang="en-US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4×10</a:t>
            </a:r>
            <a:r>
              <a:rPr b="0" lang="en-US" sz="1800" spc="-1" strike="noStrike" baseline="30000">
                <a:solidFill>
                  <a:srgbClr val="00b050"/>
                </a:solidFill>
                <a:latin typeface="微软雅黑"/>
                <a:ea typeface="微软雅黑"/>
              </a:rPr>
              <a:t>-3</a:t>
            </a:r>
            <a:r>
              <a:rPr b="0" lang="en-US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Ωm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9" name="圆角矩形 11"/>
          <p:cNvSpPr/>
          <p:nvPr/>
        </p:nvSpPr>
        <p:spPr>
          <a:xfrm>
            <a:off x="674640" y="1217520"/>
            <a:ext cx="1041264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0" name="文本框 30"/>
          <p:cNvSpPr/>
          <p:nvPr/>
        </p:nvSpPr>
        <p:spPr>
          <a:xfrm>
            <a:off x="936720" y="1482840"/>
            <a:ext cx="100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2.</a:t>
            </a: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半导体的特性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81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582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3" name="矩形 40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4" name="文本框 41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组合 3"/>
          <p:cNvGrpSpPr/>
          <p:nvPr/>
        </p:nvGrpSpPr>
        <p:grpSpPr>
          <a:xfrm>
            <a:off x="285840" y="1606680"/>
            <a:ext cx="6879960" cy="5011200"/>
            <a:chOff x="285840" y="1606680"/>
            <a:chExt cx="6879960" cy="5011200"/>
          </a:xfrm>
        </p:grpSpPr>
        <p:sp>
          <p:nvSpPr>
            <p:cNvPr id="586" name="圆角矩形 1"/>
            <p:cNvSpPr/>
            <p:nvPr/>
          </p:nvSpPr>
          <p:spPr>
            <a:xfrm>
              <a:off x="285840" y="1606680"/>
              <a:ext cx="6879960" cy="501120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7" name="文本框 14"/>
            <p:cNvSpPr/>
            <p:nvPr/>
          </p:nvSpPr>
          <p:spPr>
            <a:xfrm>
              <a:off x="431280" y="1690560"/>
              <a:ext cx="465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3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本征半导体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8" name="文本框 15"/>
            <p:cNvSpPr/>
            <p:nvPr/>
          </p:nvSpPr>
          <p:spPr>
            <a:xfrm>
              <a:off x="437760" y="1981440"/>
              <a:ext cx="6648480" cy="26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天然的硅和锗是不能制作成半导体器件的，只有经过高度提纯，形成不含其他杂质且具有晶体结构的半导体，可称为本征半导体，如图右所示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(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１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)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半导体的导电机理与金属导体导电机理有本质上的区别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(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２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)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本征半导体中</a:t>
              </a:r>
              <a:r>
                <a:rPr b="0" lang="zh-CN" sz="2000" spc="-1" strike="noStrike">
                  <a:solidFill>
                    <a:srgbClr val="ff0000"/>
                  </a:solidFill>
                  <a:latin typeface="思源黑体 CN Light"/>
                  <a:ea typeface="思源黑体 CN Light"/>
                </a:rPr>
                <a:t>载流子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数目极少，其导电性能很差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(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３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)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温度越高，载流子的数目越多，半导体的导电性能也就越好，所以，温度对半导体器件性能影响很大。 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589" name="Picture 2" descr=""/>
          <p:cNvPicPr/>
          <p:nvPr/>
        </p:nvPicPr>
        <p:blipFill>
          <a:blip r:embed="rId1"/>
          <a:srcRect l="0" t="0" r="0" b="12107"/>
          <a:stretch/>
        </p:blipFill>
        <p:spPr>
          <a:xfrm>
            <a:off x="7159680" y="2021040"/>
            <a:ext cx="4824360" cy="3957480"/>
          </a:xfrm>
          <a:prstGeom prst="rect">
            <a:avLst/>
          </a:prstGeom>
          <a:ln w="0">
            <a:noFill/>
          </a:ln>
        </p:spPr>
      </p:pic>
      <p:grpSp>
        <p:nvGrpSpPr>
          <p:cNvPr id="590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59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2" name="矩形 7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3" name="文本框 8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5" name="文本框 30"/>
          <p:cNvSpPr/>
          <p:nvPr/>
        </p:nvSpPr>
        <p:spPr>
          <a:xfrm>
            <a:off x="936720" y="1482840"/>
            <a:ext cx="100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4. N</a:t>
            </a: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型和</a:t>
            </a: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P</a:t>
            </a: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型半导体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96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59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8" name="矩形 40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9" name="文本框 41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00" name="Text Box 7"/>
          <p:cNvSpPr/>
          <p:nvPr/>
        </p:nvSpPr>
        <p:spPr>
          <a:xfrm>
            <a:off x="727200" y="2238480"/>
            <a:ext cx="6767280" cy="64260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(1)</a:t>
            </a:r>
            <a:r>
              <a:rPr b="1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本征半导体：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纯净的半导体材料。（电中性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601" name="直接箭头连接符 3"/>
          <p:cNvCxnSpPr>
            <a:stCxn id="600" idx="2"/>
            <a:endCxn id="602" idx="0"/>
          </p:cNvCxnSpPr>
          <p:nvPr/>
        </p:nvCxnSpPr>
        <p:spPr>
          <a:xfrm>
            <a:off x="4111560" y="2806560"/>
            <a:ext cx="15120" cy="8503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602" name="矩形 9"/>
          <p:cNvSpPr/>
          <p:nvPr/>
        </p:nvSpPr>
        <p:spPr>
          <a:xfrm>
            <a:off x="744480" y="3656160"/>
            <a:ext cx="6764400" cy="243144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(2) N</a:t>
            </a:r>
            <a:r>
              <a:rPr b="1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型半导体：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4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价元素掺入微量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5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价元素后形成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N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型半导体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由电子数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&gt;&gt;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空穴数。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(3) P</a:t>
            </a:r>
            <a:r>
              <a:rPr b="1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型半导体：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4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价元素掺入微量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3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价元素后形成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P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型半导体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空穴数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&gt;&gt;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由电子数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3" name="矩形 11"/>
          <p:cNvSpPr/>
          <p:nvPr/>
        </p:nvSpPr>
        <p:spPr>
          <a:xfrm>
            <a:off x="4343760" y="3182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掺入杂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4" name="矩形 12"/>
          <p:cNvSpPr/>
          <p:nvPr/>
        </p:nvSpPr>
        <p:spPr>
          <a:xfrm>
            <a:off x="3562200" y="6102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掺杂半导体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605" name="图片 14" descr="IMG_256"/>
          <p:cNvPicPr/>
          <p:nvPr/>
        </p:nvPicPr>
        <p:blipFill>
          <a:blip r:embed="rId1"/>
          <a:stretch/>
        </p:blipFill>
        <p:spPr>
          <a:xfrm>
            <a:off x="7689960" y="1827360"/>
            <a:ext cx="3933720" cy="203652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23" descr=""/>
          <p:cNvPicPr/>
          <p:nvPr/>
        </p:nvPicPr>
        <p:blipFill>
          <a:blip r:embed="rId2"/>
          <a:stretch/>
        </p:blipFill>
        <p:spPr>
          <a:xfrm>
            <a:off x="7697880" y="4229280"/>
            <a:ext cx="3925800" cy="2035080"/>
          </a:xfrm>
          <a:prstGeom prst="rect">
            <a:avLst/>
          </a:prstGeom>
          <a:ln w="0">
            <a:noFill/>
          </a:ln>
        </p:spPr>
      </p:pic>
      <p:cxnSp>
        <p:nvCxnSpPr>
          <p:cNvPr id="607" name="直接箭头连接符 25"/>
          <p:cNvCxnSpPr>
            <a:endCxn id="605" idx="1"/>
          </p:cNvCxnSpPr>
          <p:nvPr/>
        </p:nvCxnSpPr>
        <p:spPr>
          <a:xfrm flipV="1">
            <a:off x="6949800" y="2844000"/>
            <a:ext cx="740520" cy="12358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08" name="直接箭头连接符 35"/>
          <p:cNvCxnSpPr>
            <a:endCxn id="606" idx="1"/>
          </p:cNvCxnSpPr>
          <p:nvPr/>
        </p:nvCxnSpPr>
        <p:spPr>
          <a:xfrm flipV="1">
            <a:off x="6827400" y="5245920"/>
            <a:ext cx="870840" cy="277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3"/>
          <p:cNvGrpSpPr/>
          <p:nvPr/>
        </p:nvGrpSpPr>
        <p:grpSpPr>
          <a:xfrm>
            <a:off x="285840" y="1274760"/>
            <a:ext cx="11715840" cy="1604880"/>
            <a:chOff x="285840" y="1274760"/>
            <a:chExt cx="11715840" cy="1604880"/>
          </a:xfrm>
        </p:grpSpPr>
        <p:sp>
          <p:nvSpPr>
            <p:cNvPr id="610" name="圆角矩形 1"/>
            <p:cNvSpPr/>
            <p:nvPr/>
          </p:nvSpPr>
          <p:spPr>
            <a:xfrm>
              <a:off x="285840" y="1274760"/>
              <a:ext cx="11715840" cy="160488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1" name="文本框 14"/>
            <p:cNvSpPr/>
            <p:nvPr/>
          </p:nvSpPr>
          <p:spPr>
            <a:xfrm>
              <a:off x="533880" y="1301400"/>
              <a:ext cx="793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5.PN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结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2" name="文本框 15"/>
            <p:cNvSpPr/>
            <p:nvPr/>
          </p:nvSpPr>
          <p:spPr>
            <a:xfrm>
              <a:off x="544320" y="1394640"/>
              <a:ext cx="11321640" cy="13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在一块纯净的半导体晶体上，采用特殊掺杂工艺，在两侧分别掺入三价元素和五价元素。一侧形成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型半导体，另一侧形成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型半导体，就能够形成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13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614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5" name="矩形 7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6" name="文本框 8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617" name="Picture 2" descr=""/>
          <p:cNvPicPr/>
          <p:nvPr/>
        </p:nvPicPr>
        <p:blipFill>
          <a:blip r:embed="rId1"/>
          <a:srcRect l="0" t="0" r="0" b="15994"/>
          <a:stretch/>
        </p:blipFill>
        <p:spPr>
          <a:xfrm>
            <a:off x="3317760" y="3519360"/>
            <a:ext cx="5826240" cy="3016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2T02:28:00Z</dcterms:created>
  <dc:creator>优品PPT</dc:creator>
  <dc:description>http://www.ypppt.com/</dc:description>
  <dc:language>en-US</dc:language>
  <cp:lastModifiedBy>Q9758</cp:lastModifiedBy>
  <dcterms:modified xsi:type="dcterms:W3CDTF">2024-08-28T01:39:35Z</dcterms:modified>
  <cp:revision>3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6CB5191079E497482976228782CCEBA_13</vt:lpwstr>
  </property>
  <property fmtid="{D5CDD505-2E9C-101B-9397-08002B2CF9AE}" pid="3" name="KSOProductBuildVer">
    <vt:lpwstr>2052-12.1.0.17857</vt:lpwstr>
  </property>
</Properties>
</file>